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0A1-B2A2-4D2A-B969-54772B1C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8CC-4684-47D6-AB7F-6936B4D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EB1-6022-482E-A3A9-F8D3702E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C05-511A-4A0C-BFC2-46E65777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2415-97E6-4D1C-859C-D926FBE4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CF81-35AA-44E0-825B-A3CCA4E0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0501-F498-4E54-A175-DE6F3C57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29CE-90F7-449C-8387-D53AE06E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96AC-83FE-4CF6-9C34-00651C9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9886-24AA-4515-A90A-3D19C2A6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E46D-996E-475B-837E-53210362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0EF-0872-49EF-A971-B4B38915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82DD-5E05-494A-B8D7-B74A8A6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BE91-7EF5-48DE-A0ED-3B86CE72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902F-A8A7-4F8A-81FA-33EFE2F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3CD6-5404-4249-918B-4DD504A5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4733-B4B1-471D-B844-D3E4055D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095-F8CA-42EA-A5DB-29A0C5F7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699-10E3-4448-B300-93152DC2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221-943A-4E67-A62F-DFC01E22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EC9-8A92-4F33-88FA-4370E57B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A57-60E2-4A3D-8D1E-0745FE0B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0AF-6344-467A-9B0A-D0604C92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A46-B684-44CA-A62E-0A8D171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5730-1D3D-48F7-B03A-D8269E2626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417E-F7EF-427F-AC07-E0353DB342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2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naging and Reporting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base Inform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8640" y="2927520"/>
            <a:ext cx="52578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Layout Cho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733560" cy="282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5880" y="3276720"/>
            <a:ext cx="1800" cy="1177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890680" y="4454640"/>
            <a:ext cx="2048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886200"/>
            <a:ext cx="74772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3276720"/>
            <a:ext cx="1371600" cy="1191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orm layout from these op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866920" y="32767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123516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eview of the selected layout appears her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90920" y="3657240"/>
            <a:ext cx="1371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89A-65FB-4F69-8997-A0D6980E00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Style Cho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4410000" cy="3330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29400" y="3429000"/>
            <a:ext cx="169236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style from the options lis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952520" y="3886200"/>
            <a:ext cx="16765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C41-25D4-4724-8D67-C1C48F8A48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ustomized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267080" cy="3493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3124080"/>
            <a:ext cx="222552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cess form contains a naviga-tion bar just as Datasheet view does so that you can browse or locate specific record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267080"/>
            <a:ext cx="838440" cy="1524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012-B610-41E1-AC39-CEDA809449B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tering and Editing Data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a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ing data in a form is like entering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the same keys to move the insertion point among the fiel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mouse to click in a field and then enter data or edit the data currently in the fi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465-283B-44CC-B2F6-A50DFF89AA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tering and Editing Data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a Form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navigation bar at the bottom of the form to move around in the records in the t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he New Record button to clear the form so you can enter data for a new recor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81C-2C7F-4F6D-A170-6E8B98EA880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s often contain numerous records, and it becomes difficult to keep track of all of the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allows you to sort the information in a database so that records appear in a specific 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6BE-5E12-4F83-90BC-25FB354E3B5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text and numbers in either ascending or descending 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cending order sorts alphabetically from A to Z and numerically from the lowest to the highest numb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scending order sorts alphabetically from Z to A and numerically from the highest to the lowest numb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6FD-FD82-4C03-A2D1-4F3518AB789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rting Data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quickly sort table data using toolbar buttons: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pen the table in Datasheet view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pointer in any row for the field you want to sort 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Sort Ascending or Sort Descending button on the toolbar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records are now sorted on that field according to the sort you chos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BD3-8317-48AA-8CB8-E3FE954E529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versing the Action of a S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not use Undo to reverse a s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change your mind after sorting a table, you can revert to the original order using the Remove Filter/Sort comman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Records menu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the Remove Filter/Sort comma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3F5-C756-4B29-9314-2625F80025D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nd Replacing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ing a particular value, one record, or a group of related records is not difficult with a small datab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database is large, finding a particular record or value can be tedi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croll through a database to find data or use the Find command to quickly locate information in a very large t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1EE-4B2B-476C-BE31-D651139B5EB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datasheet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 and edit data in a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rt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and replace data in Datasheet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0ED-6739-4836-B4D8-C524E3CC0BE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rolling in a Datasheet or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your database is not too large, you can often locate data by scrolling in a datasheet table or form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 the horizontal and vertical scroll bars and scroll boxes in Datasheet view to move quickly through a tabl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you have a form with many fields, you will also see a vertical scroll bar and scroll buttons in Form view, and you can use these to scroll through the list of fields in a form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407-1FB1-41CB-ADD1-36456B46867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ind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Find command allows you to quickly locate a record containing specific data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pen the Edit menu and then select Find to open the Find tab in the Find and Replace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4572000" cy="19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87E-7FB3-41FF-9ED8-EAB96A880C8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Find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nter the word or words you are looking for in the Find what text box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list arrow for the Look in box to select the field to be search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t your match opti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lect All in the Search box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he Find Next button to start the search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ccess will scroll to the first row that matches the search valu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C5F-EDCA-421F-87BA-68EAF4450C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place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use the Replace command to replace the contents of a field with new data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eplace looks for records containing your search value and updates them with the replacement valu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orrect an incorrect spelling of a na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replace an abbreviation with the full value or vice vers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update data, such as prices or d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E92-0141-4F62-8B91-222CADC9BEC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Replace Comm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f you change your mind about a replacement, you can use the Undo command to reverse the action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f you do not want to replace an occurrence of the word or phrase, click the Find Next button to go to the next occurrence without replacing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hanges are made until you click the Replace butt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EF9-5E6A-454E-90BE-2956949A6D7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ace 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4038480"/>
            <a:ext cx="7693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Replace All button in the Find and Replace dialog box to change all matching entries automatical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use the Replace All option when you are confident about making all replacements without reviewing them—you cannot undo Replace A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038480" cy="15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284-5505-4EB4-A772-F0ECE58E8BB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query is a question that you ask about your databas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t looks for data in your tables, similar to the Find command, but it can return multiple records at one tim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 create a query, you must identify the fields you want to se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select specific fields that you want to include in the query and exclude all other fiel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AC1-84F5-4C6C-85E8-EE10C5E334B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Qu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6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Query icon on the Objects bar and then double-click the Create query in Design View link. The Show Table dialog box will appe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the table to be used for the query and then click the Add button to add the fields for that table to the que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164040" cy="25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044-7B32-43C5-A7DC-89791AD7E96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Query Wind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 close the dialog box, the query grid displays with the field list for the selected t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next to the Field label in the grid to see a list of the field names for the table and then click on a name to select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66880" y="4495680"/>
            <a:ext cx="4030920" cy="17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5FF-1C4A-4136-976A-998B918BE49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leting the Query Gri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order in which you select the fields is the order in which they will be displayed, but how they are laid out in the table does not matter to a query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in the Criteria field and enter a search value. The query grid below designates that all records written by authors with the last name Dickens will display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1800" y="4724280"/>
            <a:ext cx="3581280" cy="162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268-3952-4A7D-A4ED-5B1B45253C1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que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a rep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mailing lab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D0F-568F-4A23-9CEB-F8304D55880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ving the Que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en all fields are added, click the Save button on the toolbar to open the Save As dialog box to save the query with a descriptive na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 the Close command on the File menu to close query Design view and display the Database Objects window with your new query in the list of Query objec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lect the query in the list of objects and then click the Open button in the Database Objects button.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D20-07EE-4D56-9D59-298912C98E8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y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query will run and display the results in a datasheet 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4665960" cy="2766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77120" y="3505320"/>
            <a:ext cx="198108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at only the two fields selected for the query grid are displayed—all the other fields in the table are excluded from the query result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952880" y="4648320"/>
            <a:ext cx="1524240" cy="75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FF1-C981-41A6-973E-1AFE46AC438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report is a database object that lets you organize, summarize, and print all or a portion of your d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orts can be based on a table or on a que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reate a report manually in Design view, but the Report Wizard guides you through the process of creating and printing a repor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create a report, first click the Reports icon in the Object bar and then click Create a report by using wizard in the Database Object window to open the Report Wizar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3BD-5178-4CB3-B394-D8EEBA220C0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Report Wizard dialog box, select the table or query to use for the report, and the field names will displ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505320" cy="2646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0" y="5181480"/>
            <a:ext cx="434340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ield and click the arrow button to add it to the report, or click the double arrow button to add all of the field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0080" y="3886200"/>
            <a:ext cx="8384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4114440"/>
            <a:ext cx="83844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869-AEF3-475D-B193-EE772089B62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step in creating the report is to select each field to include in the report and click the arrow button to move it to the Selected Fields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2 in the Wizard allows you to group fields in the report. For a simple report, you do not have to create group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113-9051-4F84-AFF3-7427A7BD68D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tep 3, you select sort fields for the report to determine how the data in your report will be organiz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sort up to four field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he list arrow next to the text boxes to select from a list of field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hoose Ascending or Descending order by clicking a butt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86C-388B-446D-B1E6-3BDCF34A537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tep 4, you select the layout and orientation op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see a preview of each layout as you select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lect portrait orientation, with the short side of the paper at the top, or landscape orientation, with the long side of the paper at the top when the report prin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520-97B6-4C02-AB93-B205E8ED658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Report with Report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5 provides a selection of style choices for the repor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an option to see a preview of the styl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40F-F2FC-4310-9895-B17F17FA85E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Wizard Title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760640" y="2362320"/>
            <a:ext cx="4002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In the final step, you assign a title for the report. Make the title a name to reflect what the report show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You can print the report from the Print Preview window if you select the Preview the report option, and then click Finish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BBA-D121-4F65-9DBA-188E24F32A5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iling Lab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databases often contain data regarding names and addresses, it is common to create mailing labels based on the database inform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asily print mailing labels using a specialized report Wizard called the Label Wiz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804-B0BA-4D7E-B918-EC32296DC40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eld select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F11-C75D-4C2C-9896-6B94F582802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Label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click the New button in the Database Objects bar to open the New Report dialog box and then click the Label Wizard op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Mailing List from the drop-down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ialog box that opens lets you decide whether you want to create custom labels or use standard choices provided by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04C-2E99-4E32-96FD-D207695EB57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Label Wizard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472428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553080" y="2819520"/>
            <a:ext cx="182880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se the standard options for mailing labels, you must select a label size, label manu-facturer, and label typ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409720" y="3580920"/>
            <a:ext cx="1143000" cy="838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866920" y="4343400"/>
            <a:ext cx="68580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486040" y="4419720"/>
            <a:ext cx="106668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68A-BBBA-4A02-9218-9C118D03CAD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495680" cy="282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86600" y="2819520"/>
            <a:ext cx="1447920" cy="2014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select your font and set font attri-butes, in-cluding text colo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5562720"/>
            <a:ext cx="18288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review dis-plays at lef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4800240"/>
            <a:ext cx="53352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095880" y="3276360"/>
            <a:ext cx="99072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248520" y="3657240"/>
            <a:ext cx="83808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334120" y="3809880"/>
            <a:ext cx="175248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969-2BA8-4042-B01A-7C165DE9D73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4114800" cy="2587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66680" y="2819520"/>
            <a:ext cx="152424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you choose the fields to include on the label and the order in which they will appea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3048120"/>
            <a:ext cx="1143000" cy="2562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spaces between fields, and press Enter to go to the next lin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5486400"/>
            <a:ext cx="220968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field and click the arrow to include 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90920" y="3809880"/>
            <a:ext cx="38088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581280" y="3885840"/>
            <a:ext cx="83844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486400" y="3581280"/>
            <a:ext cx="182880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943600" y="3504960"/>
            <a:ext cx="137160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79A-1B64-4E11-92E3-17A1E76A694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el Wizard Dialog Box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219560" cy="2654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705720" y="2666880"/>
            <a:ext cx="160020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tep, you can choose one or more fields to sort your labe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410080"/>
            <a:ext cx="533412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you click Next in this box, the final step will be to assign a name to your labels and then preview them before printing them on label pap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562360" y="3352680"/>
            <a:ext cx="114300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733920" y="5105520"/>
            <a:ext cx="1676160" cy="30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52D-5542-48C0-9BF0-AE062141CF5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arrange database fields in Datasheet view, you must select the columns containing the fields and then drag them to a new lo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orm Wizard helps you create a professional-looking, customized form for entering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EDC-3C4C-4BBC-8A56-39B8A47C462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ing and editing data in a form is similar to entering and editing data in a table in Datasheet view. You use the same navigation buttons to move from one record to ano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sort records in Datasheet view in either ascending or descending ord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E8C-AFB7-477F-818F-628CD8B31E4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nd command can save you time looking for records and specific values in a table. The Replace command can save you time finding and replacing specific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create a query to find records that match specified criteria. Access searches for and retrieves data from the table(s) that match the criteria you identif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EE6-357D-429D-AEBD-C01B56F3CBA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report allows you to organize, summarize, and print all or a portion of the data in a database. You can choose a Wizard to guide you through the process in creating and formatting a repo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want to create mailing labels, you create a report object and use the Label Wiz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1D4-FC3C-4CFC-9DE4-0432427863BA}" type="slidenum">
              <a:t>48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the Datasheet Layo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rrange the order of the fields in Datasheet view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pointer over the field selector (the box containing the field name) to select that colum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mouse when the pointer changes to a downward-pointing arr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FAC-CF47-4A9C-8094-42D09CB73D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the Datasheet Layout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the mouse left or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 you drag, a vertical bar follows the mouse to indicate where the column will go when you release the mouse butt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have the column where you want it, release the mouse button to insert the column in the new loc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097-B913-47A2-9644-307A28E419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t is not always convenient to view and edit data in Datasheet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ccess allows you to create forms to view and edit data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reating a form adds a new object to the databas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create a form manually or use the Form Wizard to guide you through the proces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A6B-9535-4501-91EF-0752A56F7A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orm with th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he Forms icon in the Objects 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 double-click the Create form by using wizard link in the Database Objects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Form Wizard dialog box will ope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table to use for the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4C6-4349-4199-ACF9-3C529A272F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 Wizard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733920" cy="281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4572000" y="3581280"/>
            <a:ext cx="236232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638680"/>
            <a:ext cx="41148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his button to add all the fields in the database table to the form layou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895480"/>
            <a:ext cx="152424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a table to use for the query from the drop-down lis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3733560"/>
            <a:ext cx="68580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124080" y="4343400"/>
            <a:ext cx="12956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590920"/>
            <a:ext cx="1311120" cy="2288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each field to select it, then click the arrow button to add it to the for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D68-86E9-44D0-8B26-5EAFEC4FA6A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Custom Editorial Productions</cp:lastModifiedBy>
  <dcterms:modified xsi:type="dcterms:W3CDTF">2005-02-08T17:06:32Z</dcterms:modified>
  <cp:revision>41</cp:revision>
  <dc:subject/>
  <dc:title>kjjhghgff</dc:title>
</cp:coreProperties>
</file>