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E08-2590-4EB9-A3EE-1273CC53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2FC3-42D6-48D6-BC52-765F491D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C21-F9A3-4105-8280-304390AC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A2B-115D-4018-971E-F7BA894F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B76F-B4E1-4363-952A-C3EB490E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CEE2-B172-495D-B8D7-31ADA4BB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3A81-00B7-4942-944F-3BA05E23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FAFF-56B4-4E5C-A04D-D7606D33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E389-C73D-402D-8E0A-ADD220DD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0830-2FFC-4D22-BEE9-92D70758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12A5-0D68-47AF-AB2E-76E93FBC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7F82-AB89-4D03-A7BB-F0C370D5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C14E-EEB5-4D9C-8779-8A8745CD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C2B0-2A67-46A9-9DF8-0D5A0CA1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A25E-CAB7-46CA-988A-9937B765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6A55-1EC1-4543-AB88-D96497EA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A1F5-B4DC-4B2F-B52D-878861E0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FE53-6E9F-4B49-AF11-6D538919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E37E-435E-408F-A44B-16179E2C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34FE-FAAB-4D96-A88C-DE810819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95BF-1A37-4AAB-9CFB-B72B0759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CB2-15CD-438E-A803-A326F56D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1912-7E33-4F0A-9809-5D05FBFA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948-C17D-440D-9399-8386151A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omputer Literacy 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F937-32EB-41E6-B363-09AAD25BF9E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72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7DBB-D6F0-4708-B070-D0BD69DDC1B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Key Applications Module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sson 22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naging and Reporting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tabase Informa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428640" y="2927520"/>
            <a:ext cx="525780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puter Literacy BASIC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 Wizard Layout Cho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3733560" cy="2820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95880" y="3276720"/>
            <a:ext cx="1800" cy="1177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890680" y="4454640"/>
            <a:ext cx="2048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3886200"/>
            <a:ext cx="74772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3276720"/>
            <a:ext cx="1371600" cy="1191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a form layout from these optio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866920" y="327672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3124080"/>
            <a:ext cx="1235160" cy="1739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review of the selected layout appears her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590920" y="3657240"/>
            <a:ext cx="13716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1D24-EA8A-4472-B7BC-0FAE2CD82D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 Wizard Style Cho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4410000" cy="3330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629400" y="3429000"/>
            <a:ext cx="1692360" cy="916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a style from the options lis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952520" y="3886200"/>
            <a:ext cx="167652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D1F5-EEC3-4B16-A163-113922DDF5C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Customized F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62520" y="2590920"/>
            <a:ext cx="4267080" cy="3493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43000" y="3124080"/>
            <a:ext cx="2225520" cy="2288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ccess form contains a naviga-tion bar just as Datasheet view does so that you can browse or locate specific record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4267080"/>
            <a:ext cx="838440" cy="15242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EEF-F296-41C0-95B1-4926CE2A518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tering and Editing Data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 a F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ering data in a form is like entering data in Datasheet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use the same keys to move the insertion point among the fiel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mouse to click in a field and then enter data or edit the data currently in the fiel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629-5C47-4607-83FB-B68B354092C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tering and Editing Data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 a Form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navigation bar at the bottom of the form to move around in the records in the t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he New Record button to clear the form so you can enter data for a new recor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D83-F5A5-40B6-B95A-D9E5A3DB87B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rting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bases often contain numerous records, and it becomes difficult to keep track of all of the inform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 allows you to sort the information in a database so that records appear in a specific ord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088-BE55-4C9C-995E-6E25547FE6C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rting Data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sort text and numbers in either ascending or descending ord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scending order sorts alphabetically from A to Z and numerically from the lowest to the highest number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scending order sorts alphabetically from Z to A and numerically from the highest to the lowest number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3E86-929E-438A-89F5-3D8ED41CD4A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rting Data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quickly sort table data using toolbar buttons: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Open the table in Datasheet view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lick the pointer in any row for the field you want to sort on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lick the Sort Ascending or Sort Descending button on the toolbar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 records are now sorted on that field according to the sort you chos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CB8-BCAA-4545-82AC-0A740AE70A7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versing the Action of a So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not use Undo to reverse a so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change your mind after sorting a table, you can revert to the original order using the Remove Filter/Sort comman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pen the Records menu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lect the Remove Filter/Sort command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BF54-E2CF-444D-9CCA-B7FD604BE6F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nd Replacing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ting a particular value, one record, or a group of related records is not difficult with a small databa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database is large, finding a particular record or value can be tediou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scroll through a database to find data or use the Find command to quickly locate information in a very large t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430-D1A2-4705-9619-426929D4A95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the datasheet layou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 for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er and edit data in a for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rt data in Datasheet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d and replace data in Datasheet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484-3806-4DFE-9820-849EA983823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crolling in a Datasheet or F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f your database is not too large, you can often locate data by scrolling in a datasheet table or form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Use the horizontal and vertical scroll bars and scroll boxes in Datasheet view to move quickly through a tabl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f you have a form with many fields, you will also see a vertical scroll bar and scroll buttons in Form view, and you can use these to scroll through the list of fields in a form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265-083A-4C6D-A078-65620CC7174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Find Comm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 Find command allows you to quickly locate a record containing specific data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pen the Edit menu and then select Find to open the Find tab in the Find and Replace dialog box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4572000" cy="19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08E2-25AC-413A-B113-36172155D1A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Find Comm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Enter the word or words you are looking for in the Find what text box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lick the list arrow for the Look in box to select the field to be searched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et your match option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elect All in the Search box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lick the Find Next button to start the search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ccess will scroll to the first row that matches the search valu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2C88-50DA-4D22-842F-C348D93123B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Replace Comm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use the Replace command to replace the contents of a field with new data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Replace looks for records containing your search value and updates them with the replacement valu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correct an incorrect spelling of a na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replace an abbreviation with the full value or vice vers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update data, such as prices or da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53B2-D6A2-446E-8FDE-0245C8E08C4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Replace Comm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If you change your mind about a replacement, you can use the Undo command to reverse the action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If you do not want to replace an occurrence of the word or phrase, click the Find Next button to go to the next occurrence without replacing i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hanges are made until you click the Replace butt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6AD-52FD-46B6-907E-EE0CF54E9A7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lace 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4038480"/>
            <a:ext cx="7693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Replace All button in the Find and Replace dialog box to change all matching entries automatical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ly use the Replace All option when you are confident about making all replacements without reviewing them—you cannot undo Replace Al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4038480" cy="152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ABA0-CB48-42E4-A652-FB4B5853D31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 query is a question that you ask about your databas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It looks for data in your tables, similar to the Find command, but it can return multiple records at one tim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you create a query, you must identify the fields you want to se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select specific fields that you want to include in the query and exclude all other fiel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FD4-BA25-4B3E-942E-9F42AB68708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Que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26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Query icon on the Objects bar and then double-click the Create query in Design View link. The Show Table dialog box will appe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 the table to be used for the query and then click the Add button to add the fields for that table to the que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410080" y="2590920"/>
            <a:ext cx="3164040" cy="25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AEFE-AEBE-4823-865F-F8D4202D4D4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Query Wind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you close the dialog box, the query grid displays with the field list for the selected ta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down arrow next to the Field label in the grid to see a list of the field names for the table and then click on a name to select 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666880" y="4495680"/>
            <a:ext cx="4030920" cy="178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34AD-4E9C-4A80-AC93-E2C7AD4803D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leting the Query Gri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The order in which you select the fields is the order in which they will be displayed, but how they are laid out in the table does not matter to a query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lick in the Criteria field and enter a search value. The query grid below designates that all records written by authors with the last name Dickens will display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971800" y="4724280"/>
            <a:ext cx="3581280" cy="162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A58-A298-4206-AE0F-C77087EB929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 quer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t a repo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mailing labe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969-3107-4B61-BF8D-31F736329CE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ving the Que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When all fields are added, click the Save button on the toolbar to open the Save As dialog box to save the query with a descriptive nam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Use the Close command on the File menu to close query Design view and display the Database Objects window with your new query in the list of Query objects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elect the query in the list of objects and then click the Open button in the Database Objects button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0BE-2CB5-4DB0-ADE3-9519E981997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ry Resul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query will run and display the results in a datasheet vie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295280" y="3352680"/>
            <a:ext cx="4665960" cy="27669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477120" y="3505320"/>
            <a:ext cx="1981080" cy="25628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 that only the two fields selected for the query grid are displayed—all the other fields in the table are excluded from the query result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952880" y="4648320"/>
            <a:ext cx="1524240" cy="759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8B88-9286-41E1-9971-F5A33FC6919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or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report is a database object that lets you organize, summarize, and print all or a portion of your da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orts can be based on a table or on a que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create a report manually in Design view, but the Report Wizard guides you through the process of creating and printing a repor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create a report, first click the Reports icon in the Object bar and then click Create a report by using wizard in the Database Object window to open the Report Wizar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672-9C87-4FFD-9F6C-DDDBDF62BB5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ort Wizard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Report Wizard dialog box, select the table or query to use for the report, and the field names will displ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505320" cy="2646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572000" y="5181480"/>
            <a:ext cx="4343400" cy="916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a field and click the arrow button to add it to the report, or click the double arrow button to add all of the field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410080" y="3886200"/>
            <a:ext cx="838440" cy="1295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4114440"/>
            <a:ext cx="838440" cy="10666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4763-9674-434C-A30E-4F434716E6A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Report with Report Wiz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90360" y="2361960"/>
            <a:ext cx="76928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irst step in creating the report is to select each field to include in the report and click the arrow button to move it to the Selected Fields li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p 2 in the Wizard allows you to group fields in the report. For a simple report, you do not have to create group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378-3430-4539-8170-2DF736C16FB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Report with Report Wizard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step 3, you select sort fields for the report to determine how the data in your report will be organiz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sort up to four fields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ick the list arrow next to the text boxes to select from a list of field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hoose Ascending or Descending order by clicking a butt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B45B-C34C-46A2-A2E8-EDDFA109887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Report with Report Wizard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step 4, you select the layout and orientation op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see a preview of each layout as you select i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lect portrait orientation, with the short side of the paper at the top, or landscape orientation, with the long side of the paper at the top when the report print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446-38F0-451B-81BB-FC6F1D7A20F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Report with Report Wizard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p 5 provides a selection of style choices for the repor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ick an option to see a preview of the styl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5B0-E577-427F-B50C-D851FFA41E3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ort Wizard Title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760640" y="2362320"/>
            <a:ext cx="4002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In the final step, you assign a title for the report. Make the title a name to reflect what the report shows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You can print the report from the Print Preview window if you select the Preview the report option, and then click Finish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86D4-4B66-45A1-9A63-809B0A3D977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iling Lab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 databases often contain data regarding names and addresses, it is common to create mailing labels based on the database inform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easily print mailing labels using a specialized report Wizard called the Label Wizar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72FC-5189-4534-9A5F-137377AB2DB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eld selecto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00F-0849-417D-A18F-2D7E85381DF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Label Wiz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st click the New button in the Database Objects bar to open the New Report dialog box and then click the Label Wizard op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Mailing List from the drop-down li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ialog box that opens lets you decide whether you want to create custom labels or use standard choices provided by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FCBF-42BE-4DE7-8F4F-BC0304A4A68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Label Wizard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4724280" cy="2971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553080" y="2819520"/>
            <a:ext cx="1828800" cy="25628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use the standard options for mailing labels, you must select a label size, label manu-facturer, and label typ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409720" y="3580920"/>
            <a:ext cx="1143000" cy="838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866920" y="4343400"/>
            <a:ext cx="685800" cy="76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486040" y="4419720"/>
            <a:ext cx="106668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E3A-6FBE-4824-919D-0D78FD7BF21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bel Wizard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495680" cy="2827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086600" y="2819520"/>
            <a:ext cx="1447920" cy="2014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step, select your font and set font attri-butes, in-cluding text colo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5562720"/>
            <a:ext cx="1828800" cy="642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review dis-plays at lef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981080" y="4800240"/>
            <a:ext cx="533520" cy="762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095880" y="3276360"/>
            <a:ext cx="990720" cy="533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6248520" y="3657240"/>
            <a:ext cx="838080" cy="152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334120" y="3809880"/>
            <a:ext cx="1752480" cy="76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44F-4159-4A9E-95B3-C0E1A78A794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bel Wizard Dialog Box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2514600"/>
            <a:ext cx="4114800" cy="25876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066680" y="2819520"/>
            <a:ext cx="1524240" cy="2288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step, you choose the fields to include on the label and the order in which they will appea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3048120"/>
            <a:ext cx="1143000" cy="25628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ert spaces between fields, and press Enter to go to the next lin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5486400"/>
            <a:ext cx="2209680" cy="916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a field and click the arrow to include i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590920" y="3809880"/>
            <a:ext cx="380880" cy="76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581280" y="3885840"/>
            <a:ext cx="838440" cy="1600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5486400" y="3581280"/>
            <a:ext cx="1828800" cy="6098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5943600" y="3504960"/>
            <a:ext cx="1371600" cy="685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DC18-84D8-4679-AF55-BD904F046489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bel Wizard Dialog Box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4219560" cy="2654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705720" y="2666880"/>
            <a:ext cx="1600200" cy="1739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step, you can choose one or more fields to sort your label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5410080"/>
            <a:ext cx="5334120" cy="916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you click Next in this box, the final step will be to assign a name to your labels and then preview them before printing them on label pape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562360" y="3352680"/>
            <a:ext cx="1143000" cy="152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733920" y="5105520"/>
            <a:ext cx="1676160" cy="3045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6DB2-6439-475F-862F-10FAC572A7E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rearrange database fields in Datasheet view, you must select the columns containing the fields and then drag them to a new loc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orm Wizard helps you create a professional-looking, customized form for entering da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021-36E4-4292-BB7A-5D56EBFA7A5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ering and editing data in a form is similar to entering and editing data in a table in Datasheet view. You use the same navigation buttons to move from one record to ano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sort records in Datasheet view in either ascending or descending ord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1362-A938-418F-870B-5CDF8942FA60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ind command can save you time looking for records and specific values in a table. The Replace command can save you time finding and replacing specific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create a query to find records that match specified criteria. Access searches for and retrieves data from the table(s) that match the criteria you identif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C06-0F7C-4C43-9CF9-ADB0B8A26CF7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report allows you to organize, summarize, and print all or a portion of the data in a database. You can choose a Wizard to guide you through the process in creating and formatting a repo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you want to create mailing labels, you create a report object and use the Label Wizar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25F2-82E2-4A76-B24E-86C45BD04986}" type="slidenum">
              <a:t>48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nging the Datasheet Layo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rrange the order of the fields in Datasheet view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sition the pointer over the field selector (the box containing the field name) to select that colum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mouse when the pointer changes to a downward-pointing arr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EDFB-BE7B-4FE4-BC29-493B073E62D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nging the Datasheet Layout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g the mouse left or righ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s you drag, a vertical bar follows the mouse to indicate where the column will go when you release the mouse butt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en you have the column where you want it, release the mouse button to insert the column in the new locati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CB3-F203-4611-AFE0-B8B74493A16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F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t is not always convenient to view and edit data in Datasheet view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ccess allows you to create forms to view and edit data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reating a form adds a new object to the databas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create a form manually or use the Form Wizard to guide you through the proces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3828-9D78-43B7-B6A5-3D7EC0CA707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Form with the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 Wiz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he Forms icon in the Objects 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n double-click the Create form by using wizard link in the Database Objects wind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 Form Wizard dialog box will ope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the table to use for the for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CC1-A030-4484-B4BC-E61E76EA63C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 Wizard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3733920" cy="2819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H="1">
            <a:off x="4572000" y="3581280"/>
            <a:ext cx="2362320" cy="6098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638680"/>
            <a:ext cx="4114800" cy="642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his button to add all the fields in the database table to the form layou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2895480"/>
            <a:ext cx="1524240" cy="1739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a table to use for the query from the drop-down lis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590920" y="3733560"/>
            <a:ext cx="685800" cy="152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124080" y="4343400"/>
            <a:ext cx="1295640" cy="1295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2590920"/>
            <a:ext cx="1311120" cy="2288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each field to select it, then click the arrow button to add it to the form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6BA-2DE0-45FB-A688-CF450BE91C4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1:47:29Z</dcterms:created>
  <dc:creator>Connie Morrison</dc:creator>
  <dc:description/>
  <dc:language>en-US</dc:language>
  <cp:lastModifiedBy>Custom Editorial Productions</cp:lastModifiedBy>
  <dcterms:modified xsi:type="dcterms:W3CDTF">2005-02-08T17:06:32Z</dcterms:modified>
  <cp:revision>41</cp:revision>
  <dc:subject/>
  <dc:title>kjjhghgff</dc:title>
</cp:coreProperties>
</file>