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7BF-025F-4E54-A739-06FA8932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D22-67E6-4194-A44A-0658929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A04-7340-4BA1-96EF-27A36EAD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235-CE11-4834-9692-51150094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E8E8-84D7-4EBF-9033-B6A389E5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5F84-AEBE-4193-9088-9519B3E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1C9-623A-4E53-BA18-F301105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ED0D-EC2A-4DBF-B4A2-19B2266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9E88-E21B-44AA-9E39-F25D8CC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537-F69D-4E8D-B3AB-7526CC0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B378-47B6-45DF-AEA4-28FD4EB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2D6-CA21-4167-A3CB-281AEEC0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83CB-9513-45E2-A771-BC5A726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FCD-3D78-421C-A0B1-EB3C487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28D6-6636-402F-84E3-2CADB58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71C0-98D4-4ED7-B049-7BC632EC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0A03-CE92-4335-9389-FCB57DA1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965-C072-40FE-B400-6E87C5F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6DF-4BF2-4704-A668-E8ED4B5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6B2-89B2-48F3-827C-29945066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669-7D81-4CB0-AC22-1D63871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30F-5AB8-45F9-97BB-97B7D38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215-1C8E-418E-B3B3-57AA9124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FA-CF53-41CD-9531-FAE6F35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650-4BFC-4624-AEEC-D5F9394D62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0CE2-51E6-425D-9D2A-7E3F1066C0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2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ing and Reportin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Inform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927520"/>
            <a:ext cx="52578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Layout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733560" cy="28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3276720"/>
            <a:ext cx="1800" cy="117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890680" y="4454640"/>
            <a:ext cx="2048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886200"/>
            <a:ext cx="7477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276720"/>
            <a:ext cx="137160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orm layout from these op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123516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of the selected layout appears he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657240"/>
            <a:ext cx="1371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BE7-9BF1-46A7-88FB-3E38696437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Style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410000" cy="333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29400" y="3429000"/>
            <a:ext cx="169236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style from the options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3886200"/>
            <a:ext cx="16765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90E-008C-429D-B950-ABE346684A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stomized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267080" cy="3493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3124080"/>
            <a:ext cx="22255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cess form contains a naviga-tion bar just as Datasheet view does so that you can browse or locate specific recor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267080"/>
            <a:ext cx="83844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793-F4F7-434C-B80D-45525C669A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data in a form is like entering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e same keys to move the insertion point among the fiel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mouse to click in a field and then enter data or edit the data currently in the fi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608-CD96-4FB6-8798-D71F16757B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navigation bar at the bottom of the form to move around in the records in th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New Record button to clear the form so you can enter data for a new recor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63-63C1-493B-A189-0649080F73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often contain numerous records, and it becomes difficult to keep track of all of th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allows you to sort the information in a database so that records appear in a specific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F0B-8ADB-4EB6-A145-9A8A6E8C44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ext and numbers in either ascending or descending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cending order sorts alphabetically from A to Z and numerically from the lowest to the high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scending order sorts alphabetically from Z to A and numerically from the highest to the low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1FA-6112-4E3F-B30C-EF1DD81267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quickly sort table data using toolbar button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pen the table in Datasheet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pointer in any row for the field you want to sort 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Sort Ascending or Sort Descending button on the toolbar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cords are now sorted on that field according to the sort you chos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8F8-DCDF-4265-9AB2-8D91892AC1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ersing the Action of a S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use Undo to reverse a 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change your mind after sorting a table, you can revert to the original order using the Remove Filter/Sort com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Records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the Remove Filter/Sort comma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D3C-2CC1-4400-834F-993140708C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nd Replac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ng a particular value, one record, or a group of related records is not difficult with a small datab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database is large, finding a particular record or value can be tedi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croll through a database to find data or use the Find command to quickly locate information in a very larg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43C-ACC9-40F6-A660-9838D1ACE6F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datasheet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and edit data in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rt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BED-278F-4F26-BD54-88528D4616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rolling in a Datasheet or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r database is not too large, you can often locate data by scrolling in a datasheet table or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horizontal and vertical scroll bars and scroll boxes in Datasheet view to move quickly through a tabl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 have a form with many fields, you will also see a vertical scroll bar and scroll buttons in Form view, and you can use these to scroll through the list of fields in a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3D3-BA70-49BF-AFF7-45CEA66902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ind command allows you to quickly locate a record containing specific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Edit menu and then select Find to open the Find tab in the Find and Replace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457200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E81-96A8-4DE8-9FF6-9FB3FBE814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nter the word or words you are looking for in the Find what text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list arrow for the Look in box to select the field to be search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t your match op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All in the Search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Find Next button to start the search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will scroll to the first row that matches the search val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3F7-507A-4F0B-BCBB-70E542EB98C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use the Replace command to replace the contents of a field with new data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lace looks for records containing your search value and updates them with the replacement valu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orrect an incorrect spelling of a na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replace an abbreviation with the full value or vice vers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update data, such as prices or d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9A9-6CFA-4B8E-9011-3BB601B87F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change your mind about a replacement, you can use the Undo command to reverse the action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do not want to replace an occurrence of the word or phrase, click the Find Next button to go to the next occurrence without replacing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s are made until you click the Replace butt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3F9-A832-4503-ABE1-1BCB18F176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 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Replace All button in the Find and Replace dialog box to change all matching entries automatic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use the Replace All option when you are confident about making all replacements without reviewing them—you cannot undo Replace A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03848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053-2669-4D80-95BB-EA135DBE9D0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query is a question that you ask about your databas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t looks for data in your tables, similar to the Find command, but it can return multiple records at one tim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reate a query, you must identify the fields you want to se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select specific fields that you want to include in the query and exclude all other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272-5076-4DED-8448-CCB5CA8E5A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6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Query icon on the Objects bar and then double-click the Create query in Design View link. The Show Table dialog box will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he table to be used for the query and then click the Add button to add the fields for that table to the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16404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9FF-F3B4-4216-A067-14558CC41D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ry Wind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lose the dialog box, the query grid displays with the field list for the selected 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next to the Field label in the grid to see a list of the field names for the table and then click on a name to selec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4495680"/>
            <a:ext cx="4030920" cy="17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38B-577D-4101-B991-76A4313E2DF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leting the Query Gr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order in which you select the fields is the order in which they will be displayed, but how they are laid out in the table does not matter to a quer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in the Criteria field and enter a search value. The query grid below designates that all records written by authors with the last name Dickens will displa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3581280" cy="16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724-A8F0-45D5-92CA-DE1D2F572D1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qu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mailing lab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B18-4D2D-4ABB-B03C-BB88F725626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ving the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all fields are added, click the Save button on the toolbar to open the Save As dialog box to save the query with a descriptive na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Close command on the File menu to close query Design view and display the Database Objects window with your new query in the list of Query objec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the query in the list of objects and then click the Open button in the Database Objects butt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D0E-32FC-4B35-81FA-B8219FBA6F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query will run and display the results in a datasheet 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665960" cy="276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77120" y="3505320"/>
            <a:ext cx="198108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only the two fields selected for the query grid are displayed—all the other fields in the table are excluded from the query resul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52880" y="4648320"/>
            <a:ext cx="1524240" cy="75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9B9-0D95-49C4-8979-010CBE305EB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port is a database object that lets you organize, summarize, and print all or a portion of your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orts can be based on a table or on a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reate a report manually in Design view, but the Report Wizard guides you through the process of creating and printing a rep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create a report, first click the Reports icon in the Object bar and then click Create a report by using wizard in the Database Object window to open the Report Wizar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321-C3DA-4754-832D-55D8C1CD2D3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Report Wizard dialog box, select the table or query to use for the report, and the field names will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505320" cy="264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5181480"/>
            <a:ext cx="434340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button to add it to the report, or click the double arrow button to add all of the fiel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3886200"/>
            <a:ext cx="8384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4114440"/>
            <a:ext cx="8384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F74-92FF-468D-997A-0A36D6EE8B0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step in creating the report is to select each field to include in the report and click the arrow button to move it to the Selected Fields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 in the Wizard allows you to group fields in the report. For a simple report, you do not have to create group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900-281D-4C68-A24D-E918D3F2DA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3, you select sort fields for the report to determine how the data in your report will be organiz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ort up to four field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list arrow next to the text boxes to select from a list of field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oose Ascending or Descending order by clicking a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D16-5E05-4FD3-A6AD-201C5474AF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4, you select the layout and orientation op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ee a preview of each layout as you select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portrait orientation, with the short side of the paper at the top, or landscape orientation, with the long side of the paper at the top when the report prin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E82-8ECE-498F-9D82-9462D7BBA86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5 provides a selection of style choices for the repor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an option to see a preview of the sty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230-117A-476B-B64B-BF7E2F1CD4B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Title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4002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 the final step, you assign a title for the report. Make the title a name to reflect what the report show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print the report from the Print Preview window if you select the Preview the report option, and then click Finish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0A5-0309-427C-986F-EA2D89C3E03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ling Lab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atabases often contain data regarding names and addresses, it is common to create mailing labels based on the databas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asily print mailing labels using a specialized report Wizard called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D9E-B306-413D-8FFD-D92FBAD070C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ld select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1F5-9E74-42B8-B412-1745C7FC02E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lick the New button in the Database Objects bar to open the New Report dialog box and then click the Label Wizard op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Mailing List from the drop-down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ialog box that opens lets you decide whether you want to create custom labels or use standard choices provided by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D91-1622-4A67-B9E0-212FC89ED9C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72428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553080" y="2819520"/>
            <a:ext cx="18288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se the standard options for mailing labels, you must select a label size, label manu-facturer, and label typ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409720" y="3580920"/>
            <a:ext cx="1143000" cy="838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343400"/>
            <a:ext cx="68580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86040" y="4419720"/>
            <a:ext cx="10666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D00-4BC4-47B1-9D4A-6B018A20E6D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495680" cy="28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86600" y="2819520"/>
            <a:ext cx="1447920" cy="2014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select your font and set font attri-butes, in-cluding text col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562720"/>
            <a:ext cx="1828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dis-plays at lef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800240"/>
            <a:ext cx="53352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95880" y="3276360"/>
            <a:ext cx="99072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248520" y="3657240"/>
            <a:ext cx="83808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334120" y="3809880"/>
            <a:ext cx="17524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785-88FA-44B2-8B06-EC54468460F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114800" cy="2587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6680" y="2819520"/>
            <a:ext cx="152424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hoose the fields to include on the label and the order in which they will appea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048120"/>
            <a:ext cx="11430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spaces between fields, and press Enter to go to the next li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486400"/>
            <a:ext cx="22096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to include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3809880"/>
            <a:ext cx="3808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81280" y="3885840"/>
            <a:ext cx="83844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486400" y="3581280"/>
            <a:ext cx="18288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943600" y="3504960"/>
            <a:ext cx="137160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783-A457-4AD3-B290-AB7C2B570C8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19560" cy="2654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05720" y="2666880"/>
            <a:ext cx="16002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an choose one or more fields to sort your lab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410080"/>
            <a:ext cx="533412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you click Next in this box, the final step will be to assign a name to your labels and then preview them before printing them on label pap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62360" y="3352680"/>
            <a:ext cx="114300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33920" y="5105520"/>
            <a:ext cx="167616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59A-3B0C-440A-A7D2-17112AEC4E9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arrange database fields in Datasheet view, you must select the columns containing the fields and then drag them to a new lo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orm Wizard helps you create a professional-looking, customized form for entering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06B-3D68-4D5C-92AC-47597366659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and editing data in a form is similar to entering and editing data in a table in Datasheet view. You use the same navigation buttons to move from one record to ano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records in Datasheet view in either ascending or descending ord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EDF-C486-45C4-A8D5-75362206AEC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nd command can save you time looking for records and specific values in a table. The Replace command can save you time finding and replacing specific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create a query to find records that match specified criteria. Access searches for and retrieves data from the table(s) that match the criteria you identif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CC6-4D3C-470C-86A0-041717A6AB2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eport allows you to organize, summarize, and print all or a portion of the data in a database. You can choose a Wizard to guide you through the process in creating and formatting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want to create mailing labels, you create a report object and use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05A-2D86-445F-ABC1-073E02180AA2}" type="slidenum">
              <a:t>48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rrange the order of the fields in Datasheet vie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pointer over the field selector (the box containing the field name) to select that colum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mouse when the pointer changes to a downward-pointing arr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95E-C6B2-458B-9BD6-5940EA1287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the mouse left or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you drag, a vertical bar follows the mouse to indicate where the column will go when you release the mouse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have the column where you want it, release the mouse button to insert the column in the new loc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B88-8B64-44A1-B177-060783FF31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t is not always convenient to view and edit data in Datasheet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cess allows you to create forms to view and edit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reating a form adds a new object to the databas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reate a form manually or use the Form Wizard to guide you through the proces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E8A-8331-49BF-8540-41CC7DD281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 with th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Forms icon in the Objects 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 double-click the Create form by using wizard link in the Database Objects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orm Wizard dialog box will op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able to use for the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04E-7009-44BB-B919-6F4077459E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733920" cy="281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2000" y="3581280"/>
            <a:ext cx="236232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638680"/>
            <a:ext cx="4114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is button to add all the fields in the database table to the form layou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895480"/>
            <a:ext cx="152424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table to use for the query from the drop-down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373356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24080" y="4343400"/>
            <a:ext cx="12956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590920"/>
            <a:ext cx="13111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each field to select it, then click the arrow button to add it to the for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107-29E2-4259-8652-803165ED14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6:32Z</dcterms:modified>
  <cp:revision>41</cp:revision>
  <dc:subject/>
  <dc:title>kjjhghgff</dc:title>
</cp:coreProperties>
</file>