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FF9-AE81-4F24-B3F2-B77318C1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02A-A9DE-4F33-A2CB-3F506502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AA5-8C12-4B5D-8CD8-37FADE75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062-EBCB-47AD-B99F-FB9D0DAC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E41D-1CDD-4B3B-B41D-9BA25266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0B84-F600-4E92-84AB-155045B3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24AD-6A29-4AA2-B58E-9FEA57F1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47B4-428C-42E3-8C0B-6F42C324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09E0-2CF9-42F0-9C08-B9912EF4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FB85-D9EB-43FE-AEE4-FF069357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A87D-393E-4E1B-AC12-767FA73C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4A1-3B32-4413-BDD8-02030D30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01CC-8FEA-4DA4-94C8-D633515F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F36F-1D69-498D-A75E-AC76CE6C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5535-E90A-4AF0-99E4-7DEBE04C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9755-AF57-418C-8431-972E646F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F29D-D5E8-4C5A-A7AC-1794E302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022-AF4D-4BA5-89AB-C4171DB4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A36-7FC2-44F7-86AF-D8BF0D82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581-1504-41F0-AB9F-AD88280B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6FC-1888-4FE9-ACEB-953E5BE9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632-BF71-4A4D-B508-3CB241C4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94E-F4CE-43E9-BD65-A54F855F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CB7-A1F0-43CE-AC02-DF868273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A424-9600-4F82-8839-6CC58FBAF8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EF44-F6EE-4C08-AFAE-F5B38718DA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ey Application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2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naging and Reporting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base Inform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28640" y="2927520"/>
            <a:ext cx="52578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Layout Cho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733560" cy="282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5880" y="3276720"/>
            <a:ext cx="1800" cy="1177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890680" y="4454640"/>
            <a:ext cx="2048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886200"/>
            <a:ext cx="74772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3276720"/>
            <a:ext cx="1371600" cy="1191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orm layout from these op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866920" y="327672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123516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review of the selected layout appears her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90920" y="3657240"/>
            <a:ext cx="13716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764-EE9A-43EF-BB2C-981C9C9750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Style Cho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4410000" cy="3330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629400" y="3429000"/>
            <a:ext cx="169236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style from the options lis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952520" y="3886200"/>
            <a:ext cx="16765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FAD-99B4-4278-85F1-ED65C95467A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Customized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267080" cy="3493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3000" y="3124080"/>
            <a:ext cx="222552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cess form contains a naviga-tion bar just as Datasheet view does so that you can browse or locate specific record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267080"/>
            <a:ext cx="838440" cy="1524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CE7-3DEA-42C0-AD06-695EEF3181C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tering and Editing Data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a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ing data in a form is like entering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use the same keys to move the insertion point among the fiel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mouse to click in a field and then enter data or edit the data currently in the fi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936-6966-469C-9365-F0C8762BA3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tering and Editing Data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a Form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navigation bar at the bottom of the form to move around in the records in the t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he New Record button to clear the form so you can enter data for a new recor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83A-53BE-419E-BE3B-FA09A9A088A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s often contain numerous records, and it becomes difficult to keep track of all of the inform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allows you to sort the information in a database so that records appear in a specific or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4BA-C18A-479F-A6D9-9FF76B568F9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ort text and numbers in either ascending or descending or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cending order sorts alphabetically from A to Z and numerically from the lowest to the highest number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scending order sorts alphabetically from Z to A and numerically from the highest to the lowest number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5C8-EABF-4516-8EE3-0CE174EA644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quickly sort table data using toolbar buttons: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Open the table in Datasheet view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pointer in any row for the field you want to sort o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Sort Ascending or Sort Descending button on the toolbar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records are now sorted on that field according to the sort you chos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E07-A577-40C1-ABDD-7E46B0D0E97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versing the Action of a S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not use Undo to reverse a s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change your mind after sorting a table, you can revert to the original order using the Remove Filter/Sort comman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Records 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the Remove Filter/Sort comman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0B6-15BE-41AC-BA0F-20AEB5A9DCA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nd Replacing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ing a particular value, one record, or a group of related records is not difficult with a small databa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database is large, finding a particular record or value can be tedi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croll through a database to find data or use the Find command to quickly locate information in a very large t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B25-118C-42D0-8597-D1E928C66C1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datasheet layo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 and edit data in a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rt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and replace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EF1-383A-432F-9EE8-01D96D983DE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rolling in a Datasheet or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your database is not too large, you can often locate data by scrolling in a datasheet table or form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Use the horizontal and vertical scroll bars and scroll boxes in Datasheet view to move quickly through a tabl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you have a form with many fields, you will also see a vertical scroll bar and scroll buttons in Form view, and you can use these to scroll through the list of fields in a form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8C5-E41C-48E2-A8D3-EEE6E9585E4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Find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Find command allows you to quickly locate a record containing specific data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Edit menu and then select Find to open the Find tab in the Find and Replace dialog box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4572000" cy="19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76E-B88C-491F-AFDD-B35EC16CB12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Find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nter the word or words you are looking for in the Find what text box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list arrow for the Look in box to select the field to be searche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t your match optio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lect All in the Search box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Find Next button to start the search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ccess will scroll to the first row that matches the search valu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736-5199-4CD9-9482-FF28CAB7A5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Replace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use the Replace command to replace the contents of a field with new data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eplace looks for records containing your search value and updates them with the replacement valu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correct an incorrect spelling of a na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replace an abbreviation with the full value or vice vers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update data, such as prices or da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FE9-A39F-48C8-8D41-BB2834676CE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Replace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f you change your mind about a replacement, you can use the Undo command to reverse the action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f you do not want to replace an occurrence of the word or phrase, click the Find Next button to go to the next occurrence without replacing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s are made until you click the Replace butt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B06-6C43-468C-B3A0-0437BDA643A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lace 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4038480"/>
            <a:ext cx="7693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Replace All button in the Find and Replace dialog box to change all matching entries automatical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use the Replace All option when you are confident about making all replacements without reviewing them—you cannot undo Replace A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038480" cy="15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A70-B04D-4682-BE2C-AB1F2794E3C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query is a question that you ask about your databas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t looks for data in your tables, similar to the Find command, but it can return multiple records at one tim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you create a query, you must identify the fields you want to se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select specific fields that you want to include in the query and exclude all other fiel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6EF-EC68-419B-B8D6-C4E8A17CCA8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Qu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26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Query icon on the Objects bar and then double-click the Create query in Design View link. The Show Table dialog box will appe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the table to be used for the query and then click the Add button to add the fields for that table to the que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164040" cy="25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3CF-4395-44FE-B5B0-540E13DC805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Query Wind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you close the dialog box, the query grid displays with the field list for the selected t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down arrow next to the Field label in the grid to see a list of the field names for the table and then click on a name to select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666880" y="4495680"/>
            <a:ext cx="4030920" cy="17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845-8F6F-400D-8A00-4CD79B8EA11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leting the Query Gri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order in which you select the fields is the order in which they will be displayed, but how they are laid out in the table does not matter to a query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in the Criteria field and enter a search value. The query grid below designates that all records written by authors with the last name Dickens will display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1800" y="4724280"/>
            <a:ext cx="3581280" cy="162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713-9DF5-4878-A3AE-1165CBA3302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que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a rep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mailing lab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9F5-CB95-4501-A280-86180BF1866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ving the Qu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When all fields are added, click the Save button on the toolbar to open the Save As dialog box to save the query with a descriptive nam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Use the Close command on the File menu to close query Design view and display the Database Objects window with your new query in the list of Query object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lect the query in the list of objects and then click the Open button in the Database Objects butt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126-700F-44C1-AB30-1D228851ECB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ry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query will run and display the results in a datasheet vie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4665960" cy="2766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77120" y="3505320"/>
            <a:ext cx="198108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that only the two fields selected for the query grid are displayed—all the other fields in the table are excluded from the query result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952880" y="4648320"/>
            <a:ext cx="1524240" cy="75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23B-623E-4A1D-B655-28A30EFDEEB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report is a database object that lets you organize, summarize, and print all or a portion of your d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orts can be based on a table or on a que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create a report manually in Design view, but the Report Wizard guides you through the process of creating and printing a repor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create a report, first click the Reports icon in the Object bar and then click Create a report by using wizard in the Database Object window to open the Report Wizar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581-6018-4C2E-97EC-9D1B0583D03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Report Wizard dialog box, select the table or query to use for the report, and the field names will displ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505320" cy="2646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0" y="5181480"/>
            <a:ext cx="434340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ield and click the arrow button to add it to the report, or click the double arrow button to add all of the field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10080" y="3886200"/>
            <a:ext cx="8384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4114440"/>
            <a:ext cx="838440" cy="106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820-AEAD-49AF-8D51-B66633EB084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step in creating the report is to select each field to include in the report and click the arrow button to move it to the Selected Fields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2 in the Wizard allows you to group fields in the report. For a simple report, you do not have to create group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DE9-2DF3-4D21-881D-F277A712F46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tep 3, you select sort fields for the report to determine how the data in your report will be organiz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sort up to four field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he list arrow next to the text boxes to select from a list of field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hoose Ascending or Descending order by clicking a butt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570-108F-415D-B920-B06AE9D5179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tep 4, you select the layout and orientation op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see a preview of each layout as you select i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portrait orientation, with the short side of the paper at the top, or landscape orientation, with the long side of the paper at the top when the report prin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898-2897-4A08-ADFA-B565B38B3A9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5 provides a selection of style choices for the repor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an option to see a preview of the styl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840-7ADD-4738-817C-55E5A3B7CE3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 Wizard Title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760640" y="2362320"/>
            <a:ext cx="4002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In the final step, you assign a title for the report. Make the title a name to reflect what the report show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 can print the report from the Print Preview window if you select the Preview the report option, and then click Finish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D81-8484-4595-826A-C314CD2829F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iling Lab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databases often contain data regarding names and addresses, it is common to create mailing labels based on the database inform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asily print mailing labels using a specialized report Wizard called the Label Wiz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40E-F7A6-4E18-B0EE-97B02E2CDC9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eld select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10D-ED26-4D77-AA2A-19312242872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Label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click the New button in the Database Objects bar to open the New Report dialog box and then click the Label Wizard op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Mailing List from the drop-down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ialog box that opens lets you decide whether you want to create custom labels or use standard choices provided by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9F1-3794-4084-A98A-0407DA8235D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Label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4724280" cy="2971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553080" y="2819520"/>
            <a:ext cx="182880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se the standard options for mailing labels, you must select a label size, label manu-facturer, and label typ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409720" y="3580920"/>
            <a:ext cx="1143000" cy="838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866920" y="4343400"/>
            <a:ext cx="68580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486040" y="4419720"/>
            <a:ext cx="106668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872-5D9F-431B-8276-64101CC83FF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495680" cy="282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086600" y="2819520"/>
            <a:ext cx="1447920" cy="2014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select your font and set font attri-butes, in-cluding text colo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5562720"/>
            <a:ext cx="18288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review dis-plays at lef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4800240"/>
            <a:ext cx="533520" cy="762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095880" y="3276360"/>
            <a:ext cx="99072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248520" y="3657240"/>
            <a:ext cx="83808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334120" y="3809880"/>
            <a:ext cx="175248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76B-9253-476A-9A18-9BE45EDC580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4114800" cy="2587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66680" y="2819520"/>
            <a:ext cx="152424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you choose the fields to include on the label and the order in which they will appea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3048120"/>
            <a:ext cx="114300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spaces between fields, and press Enter to go to the next lin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5486400"/>
            <a:ext cx="220968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ield and click the arrow to include i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90920" y="3809880"/>
            <a:ext cx="38088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581280" y="3885840"/>
            <a:ext cx="838440" cy="16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486400" y="3581280"/>
            <a:ext cx="182880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943600" y="3504960"/>
            <a:ext cx="1371600" cy="685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E97-93CE-400C-9977-C2BE079CBC0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219560" cy="2654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705720" y="2666880"/>
            <a:ext cx="160020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you can choose one or more fields to sort your labe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5410080"/>
            <a:ext cx="533412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you click Next in this box, the final step will be to assign a name to your labels and then preview them before printing them on label pap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562360" y="3352680"/>
            <a:ext cx="1143000" cy="152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733920" y="5105520"/>
            <a:ext cx="1676160" cy="30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920-87E2-4DDA-BB20-5105E851414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arrange database fields in Datasheet view, you must select the columns containing the fields and then drag them to a new loc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orm Wizard helps you create a professional-looking, customized form for entering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157-FD60-4C84-A84D-81A6C7E7366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ing and editing data in a form is similar to entering and editing data in a table in Datasheet view. You use the same navigation buttons to move from one record to ano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ort records in Datasheet view in either ascending or descending ord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3DA-B99F-458A-B328-038783959A9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nd command can save you time looking for records and specific values in a table. The Replace command can save you time finding and replacing specific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create a query to find records that match specified criteria. Access searches for and retrieves data from the table(s) that match the criteria you identif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131-63D3-4E8E-84A5-290AB290EA7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report allows you to organize, summarize, and print all or a portion of the data in a database. You can choose a Wizard to guide you through the process in creating and formatting a rep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want to create mailing labels, you create a report object and use the Label Wiz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D26-9ACC-4215-9805-0DE150ABEE4B}" type="slidenum">
              <a:t>48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the Datasheet Layo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rrange the order of the fields in Datasheet view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sition the pointer over the field selector (the box containing the field name) to select that colum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mouse when the pointer changes to a downward-pointing arr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C38-A8F1-4097-84EB-F3D8A135E3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the Datasheet Layout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the mouse left or r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 you drag, a vertical bar follows the mouse to indicate where the column will go when you release the mouse butt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you have the column where you want it, release the mouse button to insert the column in the new loc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14D-EDFE-4738-8FA5-06A8A932D86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t is not always convenient to view and edit data in Datasheet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ccess allows you to create forms to view and edit data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reating a form adds a new object to the databas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create a form manually or use the Form Wizard to guide you through the proces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AE1-07C6-4887-A0D4-4B528039CE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Form with th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he Forms icon in the Objects 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 double-click the Create form by using wizard link in the Database Objects wind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Form Wizard dialog box will ope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table to use for the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1F7-C565-41EE-9B83-820404A5784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733920" cy="281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4572000" y="3581280"/>
            <a:ext cx="236232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638680"/>
            <a:ext cx="41148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his button to add all the fields in the database table to the form layou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895480"/>
            <a:ext cx="152424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table to use for the query from the drop-down lis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3733560"/>
            <a:ext cx="68580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124080" y="4343400"/>
            <a:ext cx="12956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2590920"/>
            <a:ext cx="131112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each field to select it, then click the arrow button to add it to the for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6C4-1199-4AF6-B9F3-7D4E723A284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Custom Editorial Productions</cp:lastModifiedBy>
  <dcterms:modified xsi:type="dcterms:W3CDTF">2005-02-08T17:06:32Z</dcterms:modified>
  <cp:revision>41</cp:revision>
  <dc:subject/>
  <dc:title>kjjhghgff</dc:title>
</cp:coreProperties>
</file>