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5251A-5F34-40BB-AC78-62CC175A8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A8B70-2BF0-4D11-96DD-293E8737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FCF44-3CA3-4D33-AEE3-1447D0608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3ABF5-FC6F-4624-A190-54CC45C27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BA77B-0686-4447-88C6-09CBAB0D0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16A12-9C82-4BF1-917C-13C97E366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1C316-3FD4-43AD-B57F-BA6A4F6BA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0DA59-6098-4D88-A219-E1266427E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E1A2B-91EC-490E-A4D6-757C0C1C8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80C66-A9F3-427E-A2B5-41E57149D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1B0E9-23F2-494F-BA7A-32CD14369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90CAD-2FDA-4A83-8938-217891F12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77B4C-EC5B-4726-B6C4-D1E96F534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E21F1-1109-4693-8DB9-6175B1E7D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24BA4-8E2A-4D55-95D5-F73A94EC3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DC458-8E38-417E-9260-D44FF4E04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89C79-CB64-4B26-B4E0-FFF787C92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D6030-291D-4FE8-9E22-5C77EE94E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BDCAC-2DD1-4A6D-BA20-D109639A6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51C3B-3112-4A7C-96AF-9EA12FAE9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8250-7282-4409-B2F2-457D09454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EA03-C476-48EE-9EFB-88910508C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A0E0-EE59-44AC-A7F7-DD8B13BE4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B5730-093F-465A-8694-4B15794C9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7FCF-D8F3-413E-88DC-4B73C65564A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DEC9-4872-4A6A-ACB2-00A0893D1DD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21 </a:t>
            </a:r>
            <a:r>
              <a:rPr b="1" lang="en-US" sz="2800" spc="-1" strike="noStrike">
                <a:solidFill>
                  <a:srgbClr val="003366"/>
                </a:solidFill>
                <a:latin typeface="Arial"/>
              </a:rPr>
              <a:t>— </a:t>
            </a:r>
            <a:r>
              <a:rPr b="1" lang="en-US" sz="3200" spc="-1" strike="noStrike">
                <a:solidFill>
                  <a:srgbClr val="003366"/>
                </a:solidFill>
                <a:latin typeface="Arial"/>
              </a:rPr>
              <a:t>Access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428640" y="2927520"/>
            <a:ext cx="525780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Access Database Window</a:t>
            </a:r>
            <a:endParaRPr b="1" lang="en-US" sz="3600" spc="-1" strike="noStrike">
              <a:solidFill>
                <a:srgbClr val="006666"/>
              </a:solidFill>
              <a:latin typeface="Arial"/>
            </a:endParaRPr>
          </a:p>
        </p:txBody>
      </p:sp>
      <p:pic>
        <p:nvPicPr>
          <p:cNvPr id="125" name="" descr=""/>
          <p:cNvPicPr/>
          <p:nvPr/>
        </p:nvPicPr>
        <p:blipFill>
          <a:blip r:embed="rId1"/>
          <a:stretch/>
        </p:blipFill>
        <p:spPr>
          <a:xfrm>
            <a:off x="2286000" y="2544840"/>
            <a:ext cx="5056200" cy="3541680"/>
          </a:xfrm>
          <a:prstGeom prst="rect">
            <a:avLst/>
          </a:prstGeom>
          <a:ln w="0">
            <a:noFill/>
          </a:ln>
        </p:spPr>
      </p:pic>
      <p:sp>
        <p:nvSpPr>
          <p:cNvPr id="126" name=""/>
          <p:cNvSpPr/>
          <p:nvPr/>
        </p:nvSpPr>
        <p:spPr>
          <a:xfrm>
            <a:off x="840240" y="335268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bjects bar</a:t>
            </a:r>
            <a:endParaRPr b="0" lang="en-US" sz="1800" spc="-1" strike="noStrike">
              <a:solidFill>
                <a:srgbClr val="003366"/>
              </a:solidFill>
              <a:latin typeface="Arial"/>
            </a:endParaRPr>
          </a:p>
        </p:txBody>
      </p:sp>
      <p:sp>
        <p:nvSpPr>
          <p:cNvPr id="127" name=""/>
          <p:cNvSpPr/>
          <p:nvPr/>
        </p:nvSpPr>
        <p:spPr>
          <a:xfrm>
            <a:off x="7546320" y="350532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28" name=""/>
          <p:cNvSpPr/>
          <p:nvPr/>
        </p:nvSpPr>
        <p:spPr>
          <a:xfrm>
            <a:off x="7543800" y="4495680"/>
            <a:ext cx="1235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base Objects window</a:t>
            </a:r>
            <a:endParaRPr b="0" lang="en-US" sz="1800" spc="-1" strike="noStrike">
              <a:solidFill>
                <a:srgbClr val="003366"/>
              </a:solidFill>
              <a:latin typeface="Arial"/>
            </a:endParaRPr>
          </a:p>
        </p:txBody>
      </p:sp>
      <p:sp>
        <p:nvSpPr>
          <p:cNvPr id="129" name=""/>
          <p:cNvSpPr/>
          <p:nvPr/>
        </p:nvSpPr>
        <p:spPr>
          <a:xfrm>
            <a:off x="2133720" y="3581280"/>
            <a:ext cx="3808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flipH="1" flipV="1">
            <a:off x="5486040" y="3047760"/>
            <a:ext cx="21337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flipH="1" flipV="1">
            <a:off x="6400440" y="44193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3340055-41CA-4A00-B7B8-B93BFA6545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Database Table</a:t>
            </a:r>
            <a:endParaRPr b="1" lang="en-US" sz="3600" spc="-1" strike="noStrike">
              <a:solidFill>
                <a:srgbClr val="006666"/>
              </a:solidFill>
              <a:latin typeface="Arial"/>
            </a:endParaRPr>
          </a:p>
        </p:txBody>
      </p:sp>
      <p:sp>
        <p:nvSpPr>
          <p:cNvPr id="133"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create a new database, the first thing you need to create is a tabl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ables contain fields and records.</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ield is a single piece of information, such as a name or customer number.</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cord is a collection of related fields.</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designate one or more fields as a primary key to uniquely identify each record.</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create as many tables as you need to hold your data.</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B29641B-E44A-49C4-B023-98EFB1ECD3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sheet View and Design View</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Database tables can be displayed in Datasheet view or Design view.</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atasheet view displays the table data in rows and column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esign view displays the field definition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B22839A-3205-4F22-8BF5-6DB622CDE8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Table in Database View</a:t>
            </a:r>
            <a:endParaRPr b="1" lang="en-US" sz="3600" spc="-1" strike="noStrike">
              <a:solidFill>
                <a:srgbClr val="006666"/>
              </a:solidFill>
              <a:latin typeface="Arial"/>
            </a:endParaRPr>
          </a:p>
        </p:txBody>
      </p:sp>
      <p:pic>
        <p:nvPicPr>
          <p:cNvPr id="137" name="" descr=""/>
          <p:cNvPicPr/>
          <p:nvPr/>
        </p:nvPicPr>
        <p:blipFill>
          <a:blip r:embed="rId1"/>
          <a:stretch/>
        </p:blipFill>
        <p:spPr>
          <a:xfrm>
            <a:off x="1373040" y="2573280"/>
            <a:ext cx="6247080" cy="35132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DE21843-F7BD-42ED-A1B9-4129478B3E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Database File</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only use the Save As command for naming and saving parts of an Access databa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not use the File Save As command to save the entire database under a new na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rename an Access file:</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pen My Computer or Windows Explore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n locate and select the file, open the File menu, and choose Rename. </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You can copy or save the file in a new location before you rename it.</a:t>
            </a: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D455D6D-0425-42E1-87C8-CD81C39BFD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a:t>
            </a:r>
            <a:endParaRPr b="1" lang="en-US" sz="3600" spc="-1" strike="noStrike">
              <a:solidFill>
                <a:srgbClr val="006666"/>
              </a:solidFill>
              <a:latin typeface="Arial"/>
            </a:endParaRPr>
          </a:p>
        </p:txBody>
      </p:sp>
      <p:sp>
        <p:nvSpPr>
          <p:cNvPr id="141" name="PlaceHolder 2"/>
          <p:cNvSpPr>
            <a:spLocks noGrp="1"/>
          </p:cNvSpPr>
          <p:nvPr>
            <p:ph/>
          </p:nvPr>
        </p:nvSpPr>
        <p:spPr>
          <a:xfrm>
            <a:off x="837720" y="2362320"/>
            <a:ext cx="34290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create a table using a Wizard, you respond to a series of questions about how you want to set up the 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st you will be asked to identify the fields you want in the database table.</a:t>
            </a:r>
            <a:endParaRPr b="0" lang="en-US" sz="2400" spc="-1" strike="noStrike">
              <a:solidFill>
                <a:srgbClr val="003366"/>
              </a:solidFill>
              <a:latin typeface="Arial"/>
            </a:endParaRPr>
          </a:p>
        </p:txBody>
      </p:sp>
      <p:pic>
        <p:nvPicPr>
          <p:cNvPr id="142" name="" descr=""/>
          <p:cNvPicPr/>
          <p:nvPr/>
        </p:nvPicPr>
        <p:blipFill>
          <a:blip r:embed="rId1"/>
          <a:stretch/>
        </p:blipFill>
        <p:spPr>
          <a:xfrm>
            <a:off x="4419720" y="2590920"/>
            <a:ext cx="3770280" cy="2546280"/>
          </a:xfrm>
          <a:prstGeom prst="rect">
            <a:avLst/>
          </a:prstGeom>
          <a:ln w="0">
            <a:noFill/>
          </a:ln>
        </p:spPr>
      </p:pic>
      <p:sp>
        <p:nvSpPr>
          <p:cNvPr id="143" name=""/>
          <p:cNvSpPr/>
          <p:nvPr/>
        </p:nvSpPr>
        <p:spPr>
          <a:xfrm>
            <a:off x="4419720" y="5486400"/>
            <a:ext cx="382572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s the selected field to the list of fields for the new table.</a:t>
            </a:r>
            <a:endParaRPr b="0" lang="en-US" sz="1800" spc="-1" strike="noStrike">
              <a:solidFill>
                <a:srgbClr val="003366"/>
              </a:solidFill>
              <a:latin typeface="Arial"/>
            </a:endParaRPr>
          </a:p>
        </p:txBody>
      </p:sp>
      <p:sp>
        <p:nvSpPr>
          <p:cNvPr id="144" name=""/>
          <p:cNvSpPr/>
          <p:nvPr/>
        </p:nvSpPr>
        <p:spPr>
          <a:xfrm flipH="1" flipV="1">
            <a:off x="6934320" y="3733920"/>
            <a:ext cx="838080" cy="1752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B1F95D1-6D06-4693-81C3-2345F1AA9D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 (cont.)</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you have selected your fields and clicked the Next button in the Table Wizard dialog box, the Wizard asks you to name your tabl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dialog box displays a proposed name. If it is appropriate, accept the proposed name, or enter a new nam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98A33DD-116D-4AFE-B91A-1F6ACB66DB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 (cont.)</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Yes option for setting a primary key is selected as the defaul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zard then asks what you want to do after the Wizard creates your tabl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most cases, you would select Enter data directly into the table and then click Enter to create the tabl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A62670B-6A68-4942-813F-EBB05351B0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Records in Datasheet View</a:t>
            </a:r>
            <a:endParaRPr b="1" lang="en-US" sz="3600" spc="-1" strike="noStrike">
              <a:solidFill>
                <a:srgbClr val="006666"/>
              </a:solidFill>
              <a:latin typeface="Arial"/>
            </a:endParaRPr>
          </a:p>
        </p:txBody>
      </p:sp>
      <p:sp>
        <p:nvSpPr>
          <p:cNvPr id="150"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r table is in Datasheet view, it appears similar to a spreadsheet, with rows and colum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section of a row and column is called a ce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elds appear as columns, and each column has a field name – a label that helps identify the fiel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enter data into a cell, it is called an entr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a cell and key the data for that fiel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use the mouse to move from cell to cell or use keyboard command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CF04DDF-F743-4BA3-B85B-1B86C1C800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Datasheet View</a:t>
            </a:r>
            <a:endParaRPr b="1" lang="en-US" sz="3600" spc="-1" strike="noStrike">
              <a:solidFill>
                <a:srgbClr val="006666"/>
              </a:solidFill>
              <a:latin typeface="Arial"/>
            </a:endParaRPr>
          </a:p>
        </p:txBody>
      </p:sp>
      <p:pic>
        <p:nvPicPr>
          <p:cNvPr id="152" name="" descr=""/>
          <p:cNvPicPr/>
          <p:nvPr/>
        </p:nvPicPr>
        <p:blipFill>
          <a:blip r:embed="rId1"/>
          <a:stretch/>
        </p:blipFill>
        <p:spPr>
          <a:xfrm>
            <a:off x="1295280" y="2666880"/>
            <a:ext cx="7239240" cy="2971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43EF4170-88F4-4A7B-9E34-7C01F88D05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Access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purpose of the database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table using a Wiz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records in a datab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the column widt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F33F421-CB08-45D2-AA6F-0DDEC62815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ifying a Database Table</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les can be modified even after data has been ent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modify tables in Datasheet view or Design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modification commonly needed in a database table is changing the default column width.</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89EBAB1-047E-4898-A48F-561C671914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olumn Width</a:t>
            </a:r>
            <a:endParaRPr b="1" lang="en-US" sz="36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just the column width in a database table:</a:t>
            </a:r>
            <a:endParaRPr b="0" lang="en-US" sz="26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g the column border.</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 enter a specific width in the Column Width dialog box accessed from the Format menu.</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use the Best Fit command to let Access select the appropriate column width.</a:t>
            </a:r>
            <a:endParaRPr b="0" lang="en-US" sz="2400" spc="-1" strike="noStrike">
              <a:solidFill>
                <a:srgbClr val="003366"/>
              </a:solidFill>
              <a:latin typeface="Arial"/>
            </a:endParaRPr>
          </a:p>
        </p:txBody>
      </p:sp>
      <p:pic>
        <p:nvPicPr>
          <p:cNvPr id="157" name="" descr=""/>
          <p:cNvPicPr/>
          <p:nvPr/>
        </p:nvPicPr>
        <p:blipFill>
          <a:blip r:embed="rId1"/>
          <a:stretch/>
        </p:blipFill>
        <p:spPr>
          <a:xfrm>
            <a:off x="2133720" y="5141880"/>
            <a:ext cx="2435040" cy="1209600"/>
          </a:xfrm>
          <a:prstGeom prst="rect">
            <a:avLst/>
          </a:prstGeom>
          <a:ln w="0">
            <a:noFill/>
          </a:ln>
        </p:spPr>
      </p:pic>
      <p:sp>
        <p:nvSpPr>
          <p:cNvPr id="158" name=""/>
          <p:cNvSpPr/>
          <p:nvPr/>
        </p:nvSpPr>
        <p:spPr>
          <a:xfrm>
            <a:off x="5410080" y="5334120"/>
            <a:ext cx="222588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lumn Width dialog box</a:t>
            </a:r>
            <a:endParaRPr b="0" lang="en-US" sz="1800" spc="-1" strike="noStrike">
              <a:solidFill>
                <a:srgbClr val="003366"/>
              </a:solidFill>
              <a:latin typeface="Arial"/>
            </a:endParaRPr>
          </a:p>
        </p:txBody>
      </p:sp>
      <p:sp>
        <p:nvSpPr>
          <p:cNvPr id="159" name=""/>
          <p:cNvSpPr/>
          <p:nvPr/>
        </p:nvSpPr>
        <p:spPr>
          <a:xfrm flipH="1">
            <a:off x="4723920" y="563868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CAFE356-1521-47E8-9078-B62ED52BD1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and Deleting Fields</a:t>
            </a:r>
            <a:endParaRPr b="1" lang="en-US" sz="3600" spc="-1" strike="noStrike">
              <a:solidFill>
                <a:srgbClr val="006666"/>
              </a:solidFill>
              <a:latin typeface="Arial"/>
            </a:endParaRPr>
          </a:p>
        </p:txBody>
      </p:sp>
      <p:sp>
        <p:nvSpPr>
          <p:cNvPr id="16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elds can be added to or removed from a table in Datasheet or Design view, but it is easier to do in Design vie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insert a new field at the end of the 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insert a new field between existing fields in the table using the Insert menu and the Rows comm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delete a field by clicking its row header button and then clicking the Delete Rows button on the toolba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406FD67-A748-4C03-9DD8-B8AD52701C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Field Properties</a:t>
            </a:r>
            <a:endParaRPr b="1" lang="en-US" sz="3600" spc="-1" strike="noStrike">
              <a:solidFill>
                <a:srgbClr val="006666"/>
              </a:solidFill>
              <a:latin typeface="Arial"/>
            </a:endParaRPr>
          </a:p>
        </p:txBody>
      </p:sp>
      <p:sp>
        <p:nvSpPr>
          <p:cNvPr id="163" name="PlaceHolder 1"/>
          <p:cNvSpPr>
            <a:spLocks noGrp="1"/>
          </p:cNvSpPr>
          <p:nvPr>
            <p:ph/>
          </p:nvPr>
        </p:nvSpPr>
        <p:spPr>
          <a:xfrm>
            <a:off x="838080" y="2362320"/>
            <a:ext cx="784872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Design view, you can set or change the data type for each fie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fault data type for a field is regular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elect a data type, a dialog box displays several options for 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perties shown vary by data typ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et any of the properties to customize the data in that field.</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BA77308-CEEC-4A29-8116-0442B3DB5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 Type Options</a:t>
            </a:r>
            <a:endParaRPr b="1" lang="en-US" sz="3600" spc="-1" strike="noStrike">
              <a:solidFill>
                <a:srgbClr val="006666"/>
              </a:solidFill>
              <a:latin typeface="Arial"/>
            </a:endParaRPr>
          </a:p>
        </p:txBody>
      </p:sp>
      <p:pic>
        <p:nvPicPr>
          <p:cNvPr id="165" name="" descr=""/>
          <p:cNvPicPr/>
          <p:nvPr/>
        </p:nvPicPr>
        <p:blipFill>
          <a:blip r:embed="rId1"/>
          <a:stretch/>
        </p:blipFill>
        <p:spPr>
          <a:xfrm>
            <a:off x="1295280" y="2590920"/>
            <a:ext cx="1828800" cy="2971800"/>
          </a:xfrm>
          <a:prstGeom prst="rect">
            <a:avLst/>
          </a:prstGeom>
          <a:ln w="0">
            <a:noFill/>
          </a:ln>
        </p:spPr>
      </p:pic>
      <p:pic>
        <p:nvPicPr>
          <p:cNvPr id="166" name="" descr=""/>
          <p:cNvPicPr/>
          <p:nvPr/>
        </p:nvPicPr>
        <p:blipFill>
          <a:blip r:embed="rId2"/>
          <a:stretch/>
        </p:blipFill>
        <p:spPr>
          <a:xfrm>
            <a:off x="4267080" y="4038480"/>
            <a:ext cx="2819520" cy="1665360"/>
          </a:xfrm>
          <a:prstGeom prst="rect">
            <a:avLst/>
          </a:prstGeom>
          <a:ln w="0">
            <a:noFill/>
          </a:ln>
        </p:spPr>
      </p:pic>
      <p:sp>
        <p:nvSpPr>
          <p:cNvPr id="167" name=""/>
          <p:cNvSpPr/>
          <p:nvPr/>
        </p:nvSpPr>
        <p:spPr>
          <a:xfrm>
            <a:off x="3809880" y="2666880"/>
            <a:ext cx="36576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in the Data Type cell next to a field in Design view to display a list of data type options.</a:t>
            </a:r>
            <a:endParaRPr b="0" lang="en-US" sz="1800" spc="-1" strike="noStrike">
              <a:solidFill>
                <a:srgbClr val="003366"/>
              </a:solidFill>
              <a:latin typeface="Arial"/>
            </a:endParaRPr>
          </a:p>
        </p:txBody>
      </p:sp>
      <p:sp>
        <p:nvSpPr>
          <p:cNvPr id="168" name=""/>
          <p:cNvSpPr/>
          <p:nvPr/>
        </p:nvSpPr>
        <p:spPr>
          <a:xfrm flipH="1">
            <a:off x="2819160" y="3124080"/>
            <a:ext cx="99036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4267080" y="5791320"/>
            <a:ext cx="2819520" cy="36828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format option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BA641FF2-9B26-41C2-8DE2-0AF7C4F72C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on Buttons</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avigation bar in Datasheet view lets you</a:t>
            </a:r>
            <a:endParaRPr b="0" lang="en-US" sz="24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firs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previous record.</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a specific record number.</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nex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las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reate a new record.</a:t>
            </a:r>
            <a:endParaRPr b="0" lang="en-US" sz="2300" spc="-1" strike="noStrike">
              <a:solidFill>
                <a:srgbClr val="003366"/>
              </a:solidFill>
              <a:latin typeface="Arial"/>
            </a:endParaRPr>
          </a:p>
          <a:p>
            <a:pPr marL="343080" indent="0" algn="just">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2" name="" descr=""/>
          <p:cNvPicPr/>
          <p:nvPr/>
        </p:nvPicPr>
        <p:blipFill>
          <a:blip r:embed="rId1"/>
          <a:stretch/>
        </p:blipFill>
        <p:spPr>
          <a:xfrm>
            <a:off x="1828800" y="5562720"/>
            <a:ext cx="4721400" cy="303120"/>
          </a:xfrm>
          <a:prstGeom prst="rect">
            <a:avLst/>
          </a:prstGeom>
          <a:ln w="0">
            <a:noFill/>
          </a:ln>
        </p:spPr>
      </p:pic>
      <p:sp>
        <p:nvSpPr>
          <p:cNvPr id="173" name=""/>
          <p:cNvSpPr/>
          <p:nvPr/>
        </p:nvSpPr>
        <p:spPr>
          <a:xfrm>
            <a:off x="992880" y="601992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rst Record</a:t>
            </a:r>
            <a:endParaRPr b="0" lang="en-US" sz="1800" spc="-1" strike="noStrike">
              <a:solidFill>
                <a:srgbClr val="003366"/>
              </a:solidFill>
              <a:latin typeface="Arial"/>
            </a:endParaRPr>
          </a:p>
        </p:txBody>
      </p:sp>
      <p:sp>
        <p:nvSpPr>
          <p:cNvPr id="174" name=""/>
          <p:cNvSpPr/>
          <p:nvPr/>
        </p:nvSpPr>
        <p:spPr>
          <a:xfrm>
            <a:off x="2517840" y="51055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Record</a:t>
            </a:r>
            <a:endParaRPr b="0" lang="en-US" sz="1800" spc="-1" strike="noStrike">
              <a:solidFill>
                <a:srgbClr val="003366"/>
              </a:solidFill>
              <a:latin typeface="Arial"/>
            </a:endParaRPr>
          </a:p>
        </p:txBody>
      </p:sp>
      <p:sp>
        <p:nvSpPr>
          <p:cNvPr id="175" name=""/>
          <p:cNvSpPr/>
          <p:nvPr/>
        </p:nvSpPr>
        <p:spPr>
          <a:xfrm>
            <a:off x="3204000" y="601992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ord Number box</a:t>
            </a:r>
            <a:endParaRPr b="0" lang="en-US" sz="1800" spc="-1" strike="noStrike">
              <a:solidFill>
                <a:srgbClr val="003366"/>
              </a:solidFill>
              <a:latin typeface="Arial"/>
            </a:endParaRPr>
          </a:p>
        </p:txBody>
      </p:sp>
      <p:sp>
        <p:nvSpPr>
          <p:cNvPr id="176" name=""/>
          <p:cNvSpPr/>
          <p:nvPr/>
        </p:nvSpPr>
        <p:spPr>
          <a:xfrm>
            <a:off x="4727160" y="4876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Record</a:t>
            </a:r>
            <a:endParaRPr b="0" lang="en-US" sz="1800" spc="-1" strike="noStrike">
              <a:solidFill>
                <a:srgbClr val="003366"/>
              </a:solidFill>
              <a:latin typeface="Arial"/>
            </a:endParaRPr>
          </a:p>
        </p:txBody>
      </p:sp>
      <p:sp>
        <p:nvSpPr>
          <p:cNvPr id="177" name=""/>
          <p:cNvSpPr/>
          <p:nvPr/>
        </p:nvSpPr>
        <p:spPr>
          <a:xfrm>
            <a:off x="6404040" y="51055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w Record</a:t>
            </a:r>
            <a:endParaRPr b="0" lang="en-US" sz="1800" spc="-1" strike="noStrike">
              <a:solidFill>
                <a:srgbClr val="003366"/>
              </a:solidFill>
              <a:latin typeface="Arial"/>
            </a:endParaRPr>
          </a:p>
        </p:txBody>
      </p:sp>
      <p:sp>
        <p:nvSpPr>
          <p:cNvPr id="178" name=""/>
          <p:cNvSpPr/>
          <p:nvPr/>
        </p:nvSpPr>
        <p:spPr>
          <a:xfrm>
            <a:off x="6098760" y="601992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t Record</a:t>
            </a:r>
            <a:endParaRPr b="0" lang="en-US" sz="1800" spc="-1" strike="noStrike">
              <a:solidFill>
                <a:srgbClr val="003366"/>
              </a:solidFill>
              <a:latin typeface="Arial"/>
            </a:endParaRPr>
          </a:p>
        </p:txBody>
      </p:sp>
      <p:sp>
        <p:nvSpPr>
          <p:cNvPr id="179" name=""/>
          <p:cNvSpPr/>
          <p:nvPr/>
        </p:nvSpPr>
        <p:spPr>
          <a:xfrm flipV="1">
            <a:off x="1905120" y="5791320"/>
            <a:ext cx="8380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flipH="1">
            <a:off x="3123720" y="5410080"/>
            <a:ext cx="2286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
          <p:cNvSpPr/>
          <p:nvPr/>
        </p:nvSpPr>
        <p:spPr>
          <a:xfrm flipH="1" flipV="1">
            <a:off x="3809520" y="5791320"/>
            <a:ext cx="22860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flipH="1">
            <a:off x="4724280" y="5181480"/>
            <a:ext cx="4572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flipH="1">
            <a:off x="5410080" y="5334120"/>
            <a:ext cx="106704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
          <p:cNvSpPr/>
          <p:nvPr/>
        </p:nvSpPr>
        <p:spPr>
          <a:xfrm flipH="1" flipV="1">
            <a:off x="5028840" y="5866920"/>
            <a:ext cx="10666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01DE44-51D3-47E2-9269-7B6126B213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Database Records</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ind the record you want, click in any field to select it and modify the data as des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make a mistake in editing a field, click the Undo button to reverse the change, but you must click Undo before you edit another field in the tabl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0A3D93D-6F49-4678-B2AA-783C54AE42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Records</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lete a record from a tabl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record by clicking the record selector at the left edge of the row.</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ress the Delete key and then click Yes in the delete confirmation box.</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50F23C9-77F1-4971-93A0-D116EB74D3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Records</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a record to the tabl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Record button on the navigation bar.</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in the fields and enter the data for the new record.</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761376F-F29D-49BA-91E3-EE0F475D5B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 Copy, and Paste Data</a:t>
            </a:r>
            <a:endParaRPr b="1" lang="en-US" sz="3600" spc="-1" strike="noStrike">
              <a:solidFill>
                <a:srgbClr val="006666"/>
              </a:solidFill>
              <a:latin typeface="Arial"/>
            </a:endParaRPr>
          </a:p>
        </p:txBody>
      </p:sp>
      <p:sp>
        <p:nvSpPr>
          <p:cNvPr id="19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elected data also can be copied or moved from one location in a database table to a new location within the same table or to a different table.</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Cut, Copy, and Paste commands that you learned in other Office applications. Access stores cut or copied data in the Clipboard.</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e the Cut, Copy, and Paste buttons on the toolbar, choose the commands from the Edit menu, or right-click the selected data and then choose a command from the shortcut menu.</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4CAFF53-4B4A-48E6-87F1-EEB3C0842E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and delete fiel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add, and delete records.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25B052A-0319-4C68-98ED-DD414668CF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parts of the Access screen are similar to other Office XP applications. However, Access also has several different toolbar buttons and menus to perform tasks unique to Ac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 objects work together to help you organize and report the information stored in the databas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142D1EC-E9B7-4EA8-AD10-C89351B65E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6" name="PlaceHolder 2"/>
          <p:cNvSpPr>
            <a:spLocks noGrp="1"/>
          </p:cNvSpPr>
          <p:nvPr>
            <p:ph/>
          </p:nvPr>
        </p:nvSpPr>
        <p:spPr>
          <a:xfrm>
            <a:off x="761760" y="2362320"/>
            <a:ext cx="776916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ables are the primary objects in a database. All other objects are based on data stored in tabl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use Datasheet view to enter records in a tabl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table can be modified after it is created, even after data records have been entered into it. You can edit a table in Datasheet view or in Design view. </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0957512-76FA-457A-8AF1-13E1BF00EC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8000"/>
          </a:bodyPr>
          <a:p>
            <a:pPr marL="335880" indent="-3358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Design view, you can specify the data type for each field. The field properties are specifications that allow you to customize the data type settings. Text is the default field property for a cell.</a:t>
            </a:r>
            <a:endParaRPr b="0" lang="en-US" sz="2600" spc="-1" strike="noStrike">
              <a:solidFill>
                <a:srgbClr val="003366"/>
              </a:solidFill>
              <a:latin typeface="Arial"/>
            </a:endParaRPr>
          </a:p>
          <a:p>
            <a:pPr marL="335880" indent="-3358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ccess provides several navigation buttons to make it easy for you to move around in a table. If you make a mistake adding or editing data, you can choose the Undo command to reverse your last actio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25DC8AA-A7DD-4ED1-9EAB-918A2F6A95D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add and delete records in a table while working in Datasheet view. New records are added at the end of the table. To delete a record, you must first select the entire row containing the record.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elected data can be copied or moved from location to another in an Access table, or to another table, using the Cut, Copy, and Paste commands. The cut or copied data is stored in the Clipboard.</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D8A6919-1464-4DBC-BAF1-BD851A7E94DF}"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sheet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na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mary k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rd selector</a:t>
            </a: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85FA3DF3-1CA2-4E52-9144-5F7D9C8B7A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Databases</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fontScale="99000"/>
          </a:bodyPr>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a:t>
            </a:r>
            <a:r>
              <a:rPr b="0" i="1" lang="en-US" sz="2700" spc="-1" strike="noStrike">
                <a:solidFill>
                  <a:srgbClr val="003366"/>
                </a:solidFill>
                <a:latin typeface="Arial"/>
              </a:rPr>
              <a:t>database</a:t>
            </a:r>
            <a:r>
              <a:rPr b="0" lang="en-US" sz="2700" spc="-1" strike="noStrike">
                <a:solidFill>
                  <a:srgbClr val="003366"/>
                </a:solidFill>
                <a:latin typeface="Arial"/>
              </a:rPr>
              <a:t> is a collection of related information organized for rapid search and retrieval.</a:t>
            </a: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s can contain all types of data from an address or membership list to schedules to inventory information or a library catalog. </a:t>
            </a: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ccess is the Microsoft Office database program that enables you to organize and manipulate data in many way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AD36CDA-0E1B-4BF9-B37A-7E9AF1E22A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a Database</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s and spreadsheets are very similar in appeara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ke spreadsheets, databases are composed of rows and columns and both enable you to organize, sort, and calculate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t a database offers much more comprehensive functions for entering, organizing, and reporting data.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A63617-6AE0-4F11-BBAA-916B99B58E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ccess Screen</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user interface for Access is similar to other Office 2003 applic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title bar, a menu bar, and a status bar.</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But unlike Word and Excel, Access does not have a standard document view.</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ccess screen changes based on which feature or object you are working on.</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any of the Access menu options and toolbar buttons also are unique to Acces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F132D00-AB49-4B61-AFE5-D34C0E25AF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Access Screen</a:t>
            </a:r>
            <a:endParaRPr b="1" lang="en-US" sz="3600" spc="-1" strike="noStrike">
              <a:solidFill>
                <a:srgbClr val="006666"/>
              </a:solidFill>
              <a:latin typeface="Arial"/>
            </a:endParaRPr>
          </a:p>
        </p:txBody>
      </p:sp>
      <p:pic>
        <p:nvPicPr>
          <p:cNvPr id="111" name="" descr=""/>
          <p:cNvPicPr/>
          <p:nvPr/>
        </p:nvPicPr>
        <p:blipFill>
          <a:blip r:embed="rId1"/>
          <a:stretch/>
        </p:blipFill>
        <p:spPr>
          <a:xfrm>
            <a:off x="2263680" y="2550960"/>
            <a:ext cx="4594320" cy="3535560"/>
          </a:xfrm>
          <a:prstGeom prst="rect">
            <a:avLst/>
          </a:prstGeom>
          <a:ln w="0">
            <a:noFill/>
          </a:ln>
        </p:spPr>
      </p:pic>
      <p:sp>
        <p:nvSpPr>
          <p:cNvPr id="112" name=""/>
          <p:cNvSpPr/>
          <p:nvPr/>
        </p:nvSpPr>
        <p:spPr>
          <a:xfrm>
            <a:off x="916560" y="24382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13" name=""/>
          <p:cNvSpPr/>
          <p:nvPr/>
        </p:nvSpPr>
        <p:spPr>
          <a:xfrm>
            <a:off x="917280" y="28195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14" name=""/>
          <p:cNvSpPr/>
          <p:nvPr/>
        </p:nvSpPr>
        <p:spPr>
          <a:xfrm>
            <a:off x="917280" y="3276720"/>
            <a:ext cx="115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bas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15" name=""/>
          <p:cNvSpPr/>
          <p:nvPr/>
        </p:nvSpPr>
        <p:spPr>
          <a:xfrm>
            <a:off x="7238880" y="3429000"/>
            <a:ext cx="1311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6" name=""/>
          <p:cNvSpPr/>
          <p:nvPr/>
        </p:nvSpPr>
        <p:spPr>
          <a:xfrm flipV="1">
            <a:off x="1981080" y="2819160"/>
            <a:ext cx="38124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V="1">
            <a:off x="1981080" y="304812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1828800" y="266688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flipH="1">
            <a:off x="6552720" y="38862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916200" y="56386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21" name=""/>
          <p:cNvSpPr/>
          <p:nvPr/>
        </p:nvSpPr>
        <p:spPr>
          <a:xfrm>
            <a:off x="2057400" y="5867280"/>
            <a:ext cx="3049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709BE0C-31C9-459E-8ABB-EF3202A734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Features</a:t>
            </a:r>
            <a:endParaRPr b="1" lang="en-US" sz="3600" spc="-1" strike="noStrike">
              <a:solidFill>
                <a:srgbClr val="006666"/>
              </a:solidFill>
              <a:latin typeface="Arial"/>
            </a:endParaRPr>
          </a:p>
        </p:txBody>
      </p:sp>
      <p:sp>
        <p:nvSpPr>
          <p:cNvPr id="123"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Tables:</a:t>
            </a:r>
            <a:r>
              <a:rPr b="0" lang="en-US" sz="2500" spc="-1" strike="noStrike">
                <a:solidFill>
                  <a:srgbClr val="003366"/>
                </a:solidFill>
                <a:latin typeface="Arial"/>
              </a:rPr>
              <a:t> All database data is stored in tables in rows and column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Queries:</a:t>
            </a:r>
            <a:r>
              <a:rPr b="0" lang="en-US" sz="2500" spc="-1" strike="noStrike">
                <a:solidFill>
                  <a:srgbClr val="003366"/>
                </a:solidFill>
                <a:latin typeface="Arial"/>
              </a:rPr>
              <a:t> Questions you ask about the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Forms:</a:t>
            </a:r>
            <a:r>
              <a:rPr b="0" lang="en-US" sz="2500" spc="-1" strike="noStrike">
                <a:solidFill>
                  <a:srgbClr val="003366"/>
                </a:solidFill>
                <a:latin typeface="Arial"/>
              </a:rPr>
              <a:t> Display data in a form forma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Pages:</a:t>
            </a:r>
            <a:r>
              <a:rPr b="0" lang="en-US" sz="2500" spc="-1" strike="noStrike">
                <a:solidFill>
                  <a:srgbClr val="003366"/>
                </a:solidFill>
                <a:latin typeface="Arial"/>
              </a:rPr>
              <a:t> Enable you to design database objects to be published on the Web.</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acros:</a:t>
            </a:r>
            <a:r>
              <a:rPr b="0" lang="en-US" sz="2500" spc="-1" strike="noStrike">
                <a:solidFill>
                  <a:srgbClr val="003366"/>
                </a:solidFill>
                <a:latin typeface="Arial"/>
              </a:rPr>
              <a:t> Used to automate task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odules:</a:t>
            </a:r>
            <a:r>
              <a:rPr b="0" lang="en-US" sz="2500" spc="-1" strike="noStrike">
                <a:solidFill>
                  <a:srgbClr val="003366"/>
                </a:solidFill>
                <a:latin typeface="Arial"/>
              </a:rPr>
              <a:t> Perform more complex operations than can be handled by macro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27A5003-A25B-4FEA-9D0A-CF50451480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8T17:10:06Z</dcterms:modified>
  <cp:revision>39</cp:revision>
  <dc:subject/>
  <dc:title>kjjhghgff</dc:title>
</cp:coreProperties>
</file>