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BF8-4CFD-4288-8DC7-4A16C0CF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300-5B98-4AB9-ADB8-D395D2E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2C6-B589-4A10-B387-EFD0DB2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4BC-5CE6-4414-8EC1-E577652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C4E6-CE1E-4AAD-8AF0-6FF5A4F7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960C-8574-4AFA-96B1-411A9FA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D33-ADFC-49DD-888F-743EB64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4247-F685-4B3A-AE29-28B9D78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2B3-2954-4581-851D-9958C01C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4836-171A-4FE0-8070-BBCCCAF0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68A-CBAD-43C8-91EC-AD15244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B5A-FCB3-4B91-BED4-ED3B01E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CA9-0E1E-4136-952F-A35DF2C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6FCE-2F66-45C1-A505-9B3493B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EA64-D8BC-452E-97CC-6505BD38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197-018F-413D-A011-2C040C0A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C32-1A79-429F-8351-E0FDB58B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A70-6D5C-402C-B0E7-1697809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364-2D0F-4A4A-B394-9607D63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D3F-7BF5-4EBA-A506-8893736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2E6-65A4-4C30-94D4-C8947DB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ACB-FF0B-4BE4-8570-48C8CFD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CBF-7DA0-4396-BFCD-A463B49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B25-E82D-46FF-9D19-DD4637E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77E4-BB37-42FA-AAF6-8DAD14D638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B7B1-6680-46EF-9D56-7B9737DB62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5B5-1414-476A-8DDB-F64F182743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elect a single character, a word, a sentence, a paragraph, a block of text, or a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425-9BA3-4CDE-9EEC-FB8D126BE6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630-68FF-4D94-B0C8-829BEE1C54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can make the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1D7-B21F-4D04-ABCE-37F278D4BE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just Font Size to Fit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quickly increase the font size to the next increment in the Font Size box, select the text and press Ctrl + ] (closing square bracke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s Ctrl + [ (opening square bracket) to decrease the font size to the previous inc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ontinue pressing the keys for additional increas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001-9CCB-4E80-933A-ADB674A89B2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insert and select a clip art object, sizing handles appear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drag the border of the picture to move it around on the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B9F-1233-4A40-8520-5025DAB9FE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-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143-FBCF-421B-A02C-719F1874B4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 to open the Select Picture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in the Search text box, key a word to search, and click 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76B-BC77-40B5-9126-15EBB43A87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Slide Layout on the Format menu to open the Slide Layout task pan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four categories of slide layout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6DD-DE5E-4DDA-B977-0009C12072C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default layout when you add a new slide to a presentation includes placeholders for a title and tex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select any slide layout to apply to a slide by selecting the slide in Normal view and then selecting the layout you want to apply from the Slide Layout task pan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r content and formatting remain and only the layout of the slide will change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FD9-A03D-42A5-8CA0-A74BC5119F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2F4-AFF3-4992-8192-5211E24686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Slide Master is 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3CF-CA27-4D1B-928F-B5D2BF2841D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view a Slide Master, open the View menu, click Master, and then select Slide Master from the sub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formatting changes to a Slide Master just as you would to any slid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text that should be entered on the Slide Master is in the Header and Footer dialog bo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slide text, such as text, titles, and lists, must be typed on individual slides in Normal view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3DE-42D1-4568-B766-0DB9B0AC5B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05D-B91D-430C-9630-EFDA2D56075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Slide Transition task pane to add trans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Slide Transition task pane from the Slide Show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AF9-2422-4517-8C4E-9F28FC9753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pply animation effects, such as exit effects, entrance effects, and emphasis effects, to one slide or to an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E3D-5F87-4862-AB22-D2B9A31E7E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Normal view, open the Slide Show menu and choose Custom Anim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Add Effect button in the Custom Animation pane to select a type of animation and then select an effect from the submenu that display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More Effects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A01-159D-4412-B1BD-076E20BFA53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2A1-AFA9-4180-B8C5-8D3B649430D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rearrange one or more slides by using drag-and-drop editing or the cut and paste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CC1-D5DD-4046-BCEA-262E84B409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ordering Slid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t is easier to use drag-and-drop editing in Slide Sorter view, with all the slides in one screen, but you can also rearrange slides in the Outline pane in Normal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slide you want to move and then drag the slide to the new location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nsertion point will be displayed as a long vertical line between the two slide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hen you release the mouse button, the slide will be repositioned at the new location of the insertion point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14C-3635-4A29-A74C-70BFE75F68D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Sorter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6180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13F-DF47-460E-A570-C37875CCF6C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B52-5BB2-47D3-BDC7-8F103AB2E72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00C-7758-4D26-9FD7-B16C53135A0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CFF-90CC-4FEC-8F90-140C814D97A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437-CEDB-44AA-8135-0D451375315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1BC-C250-4B75-8BB7-3E8213A840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EE3-C18D-42EC-8EB4-D59161F7C2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70C-9D37-4858-9CA3-4BF5251170C9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D4D-E466-468C-ACD4-68D7D4F949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ide contains a text placeholder,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also can resize the placeholders, move them to another position in the slide, and add formatting to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559-42AF-4575-A875-50C7173B19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ext Box command on the Insert menu to add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boxes 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A51-337F-48C4-8E24-49908237F4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AutoShapes, such as callout balloons and block arrows,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n AutoShape, the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th WordArt, you can stretch, curve, and rotate your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A3B-5535-4E12-8084-2AAD14619D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ntents in the Outline pane are automatically updated when you add and edit text in the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F19-835C-446C-B819-E2869347D8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hen you use a design template, the format of the text on a slide is predetermined, but you can change any formatting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96F-22EC-48B9-AE67-D3102A64D0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9:47Z</dcterms:modified>
  <cp:revision>41</cp:revision>
  <dc:subject/>
  <dc:title>kjjhghgff</dc:title>
</cp:coreProperties>
</file>