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A9CF5-936B-4D08-8431-C2EE4D9D2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64487-49CC-433D-82C3-1913F588E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2D8B8-464F-4A79-B1F8-BA293E2D5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AC476-AD7D-4348-838B-CB303C548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94345-6F11-4F86-9923-4785C7306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6AC54-79B6-4CFA-975B-8A9D257C6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3CCFB-5ACA-4B26-90A5-BAFDBF1DA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6687B-9490-4213-8E60-6EDDC5167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8DA90-A424-4A6E-A554-421416A7C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CFBD1-4758-4B2E-8843-B4EB7395A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C75FB-0A2D-4516-8AD7-16EBA8AE6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C0EFC-DD83-408E-83D3-5C707CA61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88A21-0A8E-4781-9AB3-99C75632A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AD3CA-5810-4B55-AE92-3C7F4DE8D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5F22D-7609-403B-98AD-75D578EC3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4038E-CCAE-4204-A996-681347C25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78793-55D1-419B-B127-A9B946952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BB462-FF7A-44C6-9E32-9B8D97608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6359A-9434-48C8-9D98-5BFEAA643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9ACFB-E02C-4AC7-9C0E-2149D3AA3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6F681-17E0-4651-8060-B29DEFC96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54649-335A-4B84-8590-5140EDDCE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0F40E-8478-4741-9A48-8CA7B871F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7852D-C1B3-42B9-AB5D-1F5278D23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72ba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72ba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4b3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4b3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Computer Literacy 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5070F-3568-4871-89C2-FE3CBE123905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72ba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4b3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4b3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03B1D-88EF-4F92-8A1E-65F8D7ECBC00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Key Applications Module</a:t>
            </a:r>
            <a:br>
              <a:rPr sz="3200"/>
            </a:b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Lesson 20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— 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Enhancing Presentations with Multimedia Effects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3504960" y="2927520"/>
            <a:ext cx="5181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Computer Literacy BASICS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he Font Dialog Box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676520" y="2590920"/>
            <a:ext cx="5813280" cy="3400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oft Office XP:  Advanced Course                  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0C402-F538-4EC3-9B6B-54C42DB8335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electing Tex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2362320"/>
            <a:ext cx="739152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o modify text appearance, you must first select i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You can select a single character, a word, a sentence, a paragraph, a block of text, or a lis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nce you select text, you can delete it, replace it, change its appearance, move it, copy it, and so on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oft Office XP:  Advanced Course                 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2E87E-8832-47D4-969B-B2DFE41C3135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ays to Select Text in a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143000" y="2743200"/>
            <a:ext cx="6858000" cy="2438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oft Office XP:  Advanced Course                  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26B99-8F37-4BBE-90D2-E70A70558B52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ype Styles on Slid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Using too many fonts or too many different formats can make the text harder to read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rif typefaces (such as Times Roman) have embellishments or curls at the ends of the letter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66"/>
                </a:solidFill>
                <a:latin typeface="Arial"/>
              </a:rPr>
              <a:t>Serif typefaces are easiest to read and should be used when there are many words on a screen. </a:t>
            </a:r>
            <a:endParaRPr b="0" lang="en-US" sz="21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ans serif typefaces (such as Arial) have plain strokes with clear and simple curve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66"/>
                </a:solidFill>
                <a:latin typeface="Arial"/>
              </a:rPr>
              <a:t>Sans serif typefaces are usually heavier and bolder and are appropriate for titles and subtitles.</a:t>
            </a:r>
            <a:endParaRPr b="0" lang="en-US" sz="21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oft Office XP:  Advanced Course                 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9EFB2-5644-4CA8-AD75-EE5C0DAB193A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djust Font Size to Fit a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o quickly increase the font size to the next increment in the Font Size box, select the text and press Ctrl + ] (closing square bracket)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ess Ctrl + [ (opening square bracket) to decrease the font size to the previous incremen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Continue pressing the keys for additional increases.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oft Office XP:  Advanced Course                  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03777-919C-4BE7-B1BA-E019EEBCE1CC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Graphic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3366"/>
                </a:solidFill>
                <a:latin typeface="Arial"/>
              </a:rPr>
              <a:t>Clip art and graphic objects can be added to your slides to add visual appeal.</a:t>
            </a:r>
            <a:endParaRPr b="0" lang="en-US" sz="27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3366"/>
                </a:solidFill>
                <a:latin typeface="Arial"/>
              </a:rPr>
              <a:t>Pictures can be inserted from the Clip Organizer.</a:t>
            </a:r>
            <a:endParaRPr b="0" lang="en-US" sz="27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3366"/>
                </a:solidFill>
                <a:latin typeface="Arial"/>
              </a:rPr>
              <a:t>When you insert and select a clip art object, sizing handles appear around the object to resize it.</a:t>
            </a:r>
            <a:endParaRPr b="0" lang="en-US" sz="27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3366"/>
                </a:solidFill>
                <a:latin typeface="Arial"/>
              </a:rPr>
              <a:t>You can also drag the border of the picture to move it around on the slide.</a:t>
            </a:r>
            <a:endParaRPr b="0" lang="en-US" sz="27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oft Office XP:  Advanced Course                 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0961A-01EE-4C93-B5F7-4178758EA989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Inserting a Graphic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96252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75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3366"/>
                </a:solidFill>
                <a:latin typeface="Arial"/>
              </a:rPr>
              <a:t>The icons in a graphic placeholder allow you to insert tables, charts, clip art, pictures, media clips, diagrams, and organiza-tional charts.</a:t>
            </a:r>
            <a:endParaRPr b="0" lang="en-US" sz="23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3366"/>
                </a:solidFill>
                <a:latin typeface="Arial"/>
              </a:rPr>
              <a:t>Click an icon to open a dialog box to insert the graphic type of your choice.</a:t>
            </a:r>
            <a:endParaRPr b="0" lang="en-US" sz="23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917960" y="2438280"/>
            <a:ext cx="3106800" cy="350532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2671560" y="6019920"/>
            <a:ext cx="221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Graphic placeholde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3581280" y="5181480"/>
            <a:ext cx="1295640" cy="91440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oft Office XP:  Advanced Course                  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A6B1C-F1F4-4F86-B934-0F8502F8FFDB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Inserting Clip Ar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038480" y="2362320"/>
            <a:ext cx="4075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lick the Insert Clip Art icon in a graphic placeholder to open the Select Picture dialog box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lick in the Search text box, key a word to search, and click Go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lick any thumbnail image to insert it on your slide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143000" y="2438280"/>
            <a:ext cx="2654280" cy="3571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oft Office XP:  Advanced Course                  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6467F-2BA9-4E94-9E02-D352B47A3135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hanging Slide Layout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You can change or add a slide layout in Normal view.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Select Slide Layout on the Format menu to open the Slide Layout task pane.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There are four categories of slide layouts: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ext layout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ontent layout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ext and Content layout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ther layout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oft Office XP:  Advanced Course                 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71639-B4EA-431C-BC71-2DB0162C8A8A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he Slide Layout Task Pan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5410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75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3366"/>
                </a:solidFill>
                <a:latin typeface="Arial"/>
              </a:rPr>
              <a:t>The default layout when you add a new slide to a presentation includes placeholders for a title and text.</a:t>
            </a:r>
            <a:endParaRPr b="0" lang="en-US" sz="23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3366"/>
                </a:solidFill>
                <a:latin typeface="Arial"/>
              </a:rPr>
              <a:t>You can select any slide layout to apply to a slide by selecting the slide in Normal view and then selecting the layout you want to apply from the Slide Layout task pane.</a:t>
            </a:r>
            <a:endParaRPr b="0" lang="en-US" sz="23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3366"/>
                </a:solidFill>
                <a:latin typeface="Arial"/>
              </a:rPr>
              <a:t>Your content and formatting remain and only the layout of the slide will change. </a:t>
            </a:r>
            <a:endParaRPr b="0" lang="en-US" sz="23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324480" y="2438280"/>
            <a:ext cx="186552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oft Office XP:  Advanced Course                  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EFA73-40C4-44FA-B71A-69BB72BDDC53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Objectiv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dd information to a slid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rmat tex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sert pictures and other graphic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hange the slide layou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Use Slide Master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oft Office XP:  Advanced Course                 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65BE5-F509-46DD-A526-89B1531D3E00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lide Master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3366"/>
                </a:solidFill>
                <a:latin typeface="Arial"/>
              </a:rPr>
              <a:t>A </a:t>
            </a:r>
            <a:r>
              <a:rPr b="0" i="1" lang="en-US" sz="2700" spc="-1" strike="noStrike">
                <a:solidFill>
                  <a:srgbClr val="003366"/>
                </a:solidFill>
                <a:latin typeface="Arial"/>
              </a:rPr>
              <a:t>Slide Master</a:t>
            </a:r>
            <a:r>
              <a:rPr b="0" lang="en-US" sz="2700" spc="-1" strike="noStrike">
                <a:solidFill>
                  <a:srgbClr val="003366"/>
                </a:solidFill>
                <a:latin typeface="Arial"/>
              </a:rPr>
              <a:t> is an element of the design template that stores information about the template.</a:t>
            </a:r>
            <a:endParaRPr b="0" lang="en-US" sz="27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3366"/>
                </a:solidFill>
                <a:latin typeface="Arial"/>
              </a:rPr>
              <a:t>A Slide Master is automatically provided with every design template in PowerPoint.</a:t>
            </a:r>
            <a:endParaRPr b="0" lang="en-US" sz="27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3366"/>
                </a:solidFill>
                <a:latin typeface="Arial"/>
              </a:rPr>
              <a:t>You can keep formats, such as font styles and background design, in a Slide Master.</a:t>
            </a:r>
            <a:endParaRPr b="0" lang="en-US" sz="27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3366"/>
                </a:solidFill>
                <a:latin typeface="Arial"/>
              </a:rPr>
              <a:t>You can also add text or insert graphics that will appear on every page.</a:t>
            </a:r>
            <a:endParaRPr b="0" lang="en-US" sz="27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oft Office XP:  Advanced Course                  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D0031-913A-4FC2-99AC-9E9B728A40AB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View and Change a Slide Maste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To view a Slide Master, open the View menu, click Master, and then select Slide Master from the submenu.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You can make formatting changes to a Slide Master just as you would to any slide.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e only text that should be entered on the Slide Master is in the Header and Footer dialog box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ctual slide text, such as text, titles, and lists, must be typed on individual slides in Normal view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oft Office XP:  Advanced Course                  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3C403-88A6-4968-B6BA-F4E1157A603C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ransition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lide transitions determine how the display changes from slide to slid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You can make the current slide fade away before the next one appears.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You can have slides automatically advance after a specified time period.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You can play a sound effect as the slide appears.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oft Office XP:  Advanced Course                  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8E448-C44D-48D5-A3EB-74A29184C37F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ransitions (cont.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ransitions can be applied to single slides or to all slide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Use the Slide Transition task pane to add transition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Open the Slide Transition task pane from the Slide Show menu.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oft Office XP:  Advanced Course                  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F0BD3-8E49-432A-B4FB-CB10A5669BB8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nimation Effect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467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You can apply animation effects, such as exit effects, entrance effects, and emphasis effects, to one slide or to an entire slide show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oft Office XP:  Advanced Course                  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1CF1A-8650-4A47-995C-4CC447CD57B6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nimation Effects (cont.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o add animation effects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In Normal view, open the Slide Show menu and choose Custom Animation.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Click the Add Effect button in the Custom Animation pane to select a type of animation and then select an effect from the submenu that displays.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Or select the More Effects option to open an effect dialog box.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oft Office XP:  Advanced Course                  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F813A-0472-4DFD-9965-47EDC15D2837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he Add Exit Effect Dialog Box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3408480" y="2438280"/>
            <a:ext cx="2446200" cy="3876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oft Office XP:  Advanced Course                  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6C979-F386-4CA5-960B-A62FCD7253CD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eordering Slid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You can rearrange one or more slides by using drag-and-drop editing or the cut and paste method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oft Office XP:  Advanced Course                  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66377-3A50-4D97-B3F0-D96CCF6DE6AF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eordering Slides (cont.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624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It is easier to use drag-and-drop editing in Slide Sorter view, with all the slides in one screen, but you can also rearrange slides in the Outline pane in Normal view.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575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3366"/>
                </a:solidFill>
                <a:latin typeface="Arial"/>
              </a:rPr>
              <a:t>Select the slide you want to move and then drag the slide to the new location.</a:t>
            </a:r>
            <a:endParaRPr b="0" lang="en-US" sz="23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575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3366"/>
                </a:solidFill>
                <a:latin typeface="Arial"/>
              </a:rPr>
              <a:t>The insertion point will be displayed as a long vertical line between the two slides.</a:t>
            </a:r>
            <a:endParaRPr b="0" lang="en-US" sz="23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575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3366"/>
                </a:solidFill>
                <a:latin typeface="Arial"/>
              </a:rPr>
              <a:t>When you release the mouse button, the slide will be repositioned at the new location of the insertion point.</a:t>
            </a:r>
            <a:endParaRPr b="0" lang="en-US" sz="23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oft Office XP:  Advanced Course                  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57ABC-F29F-4423-97AC-6B8C90F42BA1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lide Sorter View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2362320" y="2590920"/>
            <a:ext cx="4618080" cy="3724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oft Office XP:  Advanced Course                  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C80D5-7CDD-4883-9014-B14E6A375A46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Objectives (cont.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reate transitions between slide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hange the order of slides in a presentation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int handouts and notes to accompany a slide show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oft Office XP:  Advanced Course                  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47566-4DBA-4F78-8302-3ECBB438E31B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rinting a Presenta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There are several ways you can print a PowerPoint presentation: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rint individual slide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rint the slide show outline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rint handout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rint speaker’s note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You can use PowerPoint’s Help feature to learn more about how to print a specific element of a presentation.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oft Office XP:  Advanced Course                  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74EBB-2C86-47FD-AF47-7A6C0828DCE6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rinting Handout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To print handouts for a presentation: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pen the File menu and click Print Preview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lick the down arrow in the Print What text box to see the options available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lect one of the Handouts options from the list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lick the Print button in the Print Preview window to print the handout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You can change the print options, such as the range of pages to print, color or grayscale, and number of copies, in the Print dialog box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oft Office XP:  Advanced Course                  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11A67-48C9-4FE6-9234-B94D94DB138B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ummar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o add or edit text, a slide must be displayed in Normal view. When you add text or edit text, the slide contents are automatically updated in the Outline pan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f you want to change the way text looks on a slide, you can select the text and apply different formats. For example, you can change the font style, font size, and font color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oft Office XP:  Advanced Course                 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E02DE-9C0E-4FC5-BEEF-85DF37F63BB1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ummary (cont.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9250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3366"/>
                </a:solidFill>
                <a:latin typeface="Arial"/>
              </a:rPr>
              <a:t>Pictures help to clarify the message of your presentation. Graphics can make your audience remember your message, and PowerPoint makes it easy for you to add a picture to a slide.</a:t>
            </a:r>
            <a:endParaRPr b="0" lang="en-US" sz="27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3366"/>
                </a:solidFill>
                <a:latin typeface="Arial"/>
              </a:rPr>
              <a:t>At any time in the process of creating a presentation, you can change the layout of one or all the slides in the presentation by selecting a new slide layout in the Slide Layout task pane. </a:t>
            </a:r>
            <a:endParaRPr b="0" lang="en-US" sz="27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oft Office XP:  Advanced Course                 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28D81-5D9D-4ED2-A072-315960A149C6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ummary (con.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 Slide Master is part of a design template and is used to make uniform changes to slide characteristics, such as background color and font, or to add repeated text or graphics to all slides in a presentation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slide transition affects how each new slide appears. You can apply transition settings to a single slide or to all the slides in the presentation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oft Office XP:  Advanced Course                 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BF536-61C7-4FFE-8F52-8ADB1BF173F1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ummary (cont.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PowerPoint provides special effects that can enhance how a slide opens or closes or add emphasis, animation, or sound.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You can use drag-and-drop editing to quickly change the order of slides in a presentation in Slide Sorter view.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PowerPoint provides several options for printing a presentation, including handouts, notes pages, and an outline of the slide show content.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oft Office XP:  Advanced Course                  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4C5A9-7FB2-49AF-AC0F-AA0B130D8DEA}" type="slidenum">
              <a:t>35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Vocabular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p Organiz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xit effec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lide Mast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ransition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oft Office XP:  Advanced Course                   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BF00A-E43B-4C9E-BB78-61F15F2146E2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dding Information to a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23623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o add text to a slide or to edit the text on a slide, it must be displayed in Normal view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f the slide contains a text placeholder, just click in the placeholder and begin keying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You can type titles, subtitles, and body text in placeholders.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You also can resize the placeholders, move them to another position in the slide, and add formatting to the text.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oft Office XP:  Advanced Course                 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85744-E3B0-4FEC-B00B-CF76C3C0C8FC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ext Box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Use the Text Box command on the Insert menu to add a text box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ext boxes allow you to place text anywhere on a slide, even outside a placeholde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You can add a border, fill, shadow, or three-dimensional (3-D) effect to a text box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oft Office XP:  Advanced Course                  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0DB4A-6458-47F1-B0A0-2AC4BBBD4367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utoShapes and Word Ar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2362320"/>
            <a:ext cx="784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You can use AutoShapes, such as callout balloons and block arrows, to emphasize tex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When you enter text in an AutoShape, the text is attached to the shape and moves with it.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Use WordArt to create ornamental text effect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With WordArt, you can stretch, curve, and rotate your text to add even more elaborate effects. 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oft Office XP:  Advanced Course                 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6182B-FC30-492E-A950-AEDBA5073E95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diting Text in a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7543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o edit text in a placeholder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Position the insertion point where you want to change the text.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Make your changes.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contents in the Outline pane are automatically updated when you add and edit text in the Slide pan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oft Office XP:  Advanced Course                  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54A11-8C8B-4437-B93C-6FF3F99BD0A9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Formatting Tex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3366"/>
                </a:solidFill>
                <a:latin typeface="Arial"/>
              </a:rPr>
              <a:t>When you use a design template, the format of the text on a slide is predetermined, but you can change any formatting.</a:t>
            </a:r>
            <a:endParaRPr b="0" lang="en-US" sz="27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3366"/>
                </a:solidFill>
                <a:latin typeface="Arial"/>
              </a:rPr>
              <a:t>Use the Formatting toolbar or Font dialog box to change the font, font size, and attributes such as bold, italic, and underline.</a:t>
            </a:r>
            <a:endParaRPr b="0" lang="en-US" sz="27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3366"/>
                </a:solidFill>
                <a:latin typeface="Arial"/>
              </a:rPr>
              <a:t>You can apply other attributes, such as color, shadow, superscript, and others, in the Font dialog box.</a:t>
            </a:r>
            <a:endParaRPr b="0" lang="en-US" sz="27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oft Office XP:  Advanced Course                 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87283-7AAA-46E0-8B32-97ED70627200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11T01:47:29Z</dcterms:created>
  <dc:creator>Connie Morrison</dc:creator>
  <dc:description/>
  <dc:language>en-US</dc:language>
  <cp:lastModifiedBy>Custom Editorial Productions</cp:lastModifiedBy>
  <dcterms:modified xsi:type="dcterms:W3CDTF">2005-02-08T17:09:47Z</dcterms:modified>
  <cp:revision>41</cp:revision>
  <dc:subject/>
  <dc:title>kjjhghgff</dc:title>
</cp:coreProperties>
</file>