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A15-DE8E-4704-8990-A2EC0BA1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191-5B60-4483-BDC8-8B533CFB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FD7-35DD-47E7-A479-F506CCA4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E7E-05A3-4902-A9D8-B8F70FF7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0EC1-193E-425C-B89E-08A22A39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3774-4BC6-41B6-9034-279327A1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D28-53F1-4635-93C0-4172EFA0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0E46-D297-4964-A180-B0BACF1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3EA-ECAC-49D4-9495-8F73C08A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9FB-7CE0-473A-998D-60865A6D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D7C1-5419-4DE0-82CF-F91F28F8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931-9440-4619-A3EA-17E4F66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12CA-6264-4B94-9924-99244A0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B37-94CA-4DE1-A6D9-F91E046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F1A5-B3EC-4CB7-870B-4B0AC2F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CEFD-62AC-48A1-AC00-9EA98B2D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933E-0F30-4914-93C2-164D8B3B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5E9-CE10-4093-9C5B-118DDBF2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A14-40BF-4991-A471-2A528E8B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E1F-AE04-41DF-8567-241F78A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A77-7960-45A2-9762-7F798BB9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9F5-922D-4F62-8D5E-59FA0D3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64E-7D6A-40FE-9E6F-DA707C28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343-F4B0-43DF-B8AF-A4FE72E6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9EF1-ADD5-4F9E-AFEB-7776AE9C0C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BCC-889E-401D-B2C8-5766EC8FF6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hancing Presentations with Multimedia Effe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5181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on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1328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3AB-5796-42BF-9268-48DD1EA1D8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dify text appearance, you must first selec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elect a single character, a word, a sentence, a paragraph, a block of text, or a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select text, you can delete it, replace it, change its appearance, move it, copy it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251-CAAE-4FF9-927F-EACD081B41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ys to Select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0BB-8C17-4279-B06A-71DF9AA474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 Styles on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too many fonts or too many different formats can make the text harder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f typefaces (such as Times Roman) have embellishments or curls at the ends of the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rif typefaces are easiest to read and should be used when there are many words on a screen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ns serif typefaces (such as Arial) have plain strokes with clear and simple cur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ans serif typefaces are usually heavier and bolder and are appropriate for titles and subtit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F2A-536E-4DCB-9848-68467600F4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just Font Size to Fit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quickly increase the font size to the next increment in the Font Size box, select the text and press Ctrl + ] (closing square bracke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s Ctrl + [ (opening square bracket) to decrease the font size to the previous inc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ontinue pressing the keys for additional increase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9EF-8AA3-4AE6-A62C-A85088EF22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lip art and graphic objects can be added to your slides to add visual appeal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can be inserted from the Clip Organiz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insert and select a clip art object, sizing handles appear around the object to resiz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drag the border of the picture to move it around on the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4F0-E56E-4184-BC1D-9630A04D3F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a Graph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cons in a graphic placeholder allow you to insert tables, charts, clip art, pictures, media clips, diagrams, and organiza-tional chart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an icon to open a dialog box to insert the graphic type of your choic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917960" y="2438280"/>
            <a:ext cx="310680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671560" y="60199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phic placeho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5181480"/>
            <a:ext cx="12956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2E4-D198-4C73-BA48-E4402689153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038480" y="236232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Insert Clip Art icon in a graphic placeholder to open the Select Picture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in the Search text box, key a word to search, and click 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any thumbnail image to insert it on your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265428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3BA-D770-496E-A7B1-15AFD939E08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Slide Lay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hange or add a slide layout in Normal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Slide Layout on the Format menu to open the Slide Layout task pan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four categories of slide layout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and 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B8B-FE83-4A9E-B346-710DC947EB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lide Layout Task P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default layout when you add a new slide to a presentation includes placeholders for a title and tex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select any slide layout to apply to a slide by selecting the slide in Normal view and then selecting the layout you want to apply from the Slide Layout task pan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r content and formatting remain and only the layout of the slide will change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65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37A-CB8A-4A92-AD91-5AD5C695E3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information to a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pictures and oth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lide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lide Mas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28A-5528-4AFD-877F-2C2E9E0FC9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M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3366"/>
                </a:solidFill>
                <a:latin typeface="Arial"/>
              </a:rPr>
              <a:t>Slide Maste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is an element of the design template that stores information about the templat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Slide Master is automatically provided with every design template in PowerPoi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keep formats, such as font styles and background design, in a Slide Mast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add text or insert graphics that will appear on every pag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0BC-9190-4B9A-86D5-CDE8C5C455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ew and Change a Slide Ma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view a Slide Master, open the View menu, click Master, and then select Slide Master from the sub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formatting changes to a Slide Master just as you would to any slid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nly text that should be entered on the Slide Master is in the Header and Footer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slide text, such as text, titles, and lists, must be typed on individual slides in Normal vie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6A7-A208-465C-B832-51A5F1396ED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transitions determine how the display changes from slide to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the current slide fade away before the next on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have slides automatically advance after a specified time peri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play a sound effect as the slid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8FA-C5D0-4561-92DC-10D2E5E13E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 can be applied to single slides or to all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Slide Transition task pane to add trans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Slide Transition task pane from the Slide Show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BD4-EB0D-43AC-B534-FD730258D2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pply animation effects, such as exit effects, entrance effects, and emphasis effects, to one slide or to an entire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593-C12E-43CF-93BD-FD279C38D72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nimation eff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Normal view, open the Slide Show menu and choose Custom Anim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Add Effect button in the Custom Animation pane to select a type of animation and then select an effect from the submenu that display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r select the More Effects option to open an effect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BC2-8185-44C6-9270-E3E14BE5F4D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d Exit Effec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08480" y="2438280"/>
            <a:ext cx="2446200" cy="38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F2E-91CB-44BA-AA39-DD2FF1816B6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rearrange one or more slides by using drag-and-drop editing or the cut and paste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FBF-65D7-4705-B0EE-F2B8272FFA8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t is easier to use drag-and-drop editing in Slide Sorter view, with all the slides in one screen, but you can also rearrange slides in the Outline pane in Normal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lect the slide you want to move and then drag the slide to the new location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nsertion point will be displayed as a long vertical line between the two slide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When you release the mouse button, the slide will be repositioned at the new location of the insertion poin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042-6522-4006-8E5C-D449371304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orter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6180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F7D-EDFC-4046-8ABA-AB167DE1E12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transitions between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order of slides in a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handouts and notes to accompany a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98E-D50A-4107-9A31-7C970EF7079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several ways you can print a PowerPoint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individual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the slide show out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speaker’s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PowerPoint’s Help feature to learn more about how to print a specific element of a present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FDF-216B-44D0-B79D-DF5612FBCDA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Hand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print handouts for a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 the File menu and click Print P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in the Print What text box to see the options avail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one of the Handouts options from the l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Print button in the Print Preview window to print the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change the print options, such as the range of pages to print, color or grayscale, and number of copies, in the Print dialog bo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198-68E9-4769-943A-2ACE831343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or edit text, a slide must be displayed in Normal view. When you add text or edit text, the slide contents are automatically updated in the Outlin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want to change the way text looks on a slide, you can select the text and apply different formats. For example, you can change the font style, font size, and font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1ED-4E44-4933-A1CB-FEC5F9070DB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help to clarify the message of your presentation. Graphics can make your audience remember your message, and PowerPoint makes it easy for you to add a picture to a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t any time in the process of creating a presentation, you can change the layout of one or all the slides in the presentation by selecting a new slide layout in the Slide Layout task pa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D6D-CAD4-4314-B9E2-9BA97FCED01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ide Master is part of a design template and is used to make uniform changes to slide characteristics, such as background color and font, or to add repeated text or graphics to all slides in a pres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ransition affects how each new slide appears. You can apply transition settings to a single slide or to all the slides in the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57B-C926-43BA-B424-8C37366CBE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pecial effects that can enhance how a slide opens or closes or add emphasis, animation, or sou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drag-and-drop editing to quickly change the order of slides in a presentation in Slide Sorter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everal options for printing a presentation, including handouts, notes pages, and an outline of the slide show conten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96C-B9A7-4382-9E40-559B4C36DE4B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Organ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t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M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F54-9547-4760-80CA-20E95DEE56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Information to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text to a slide or to edit the text on a slide, it must be displayed in Normal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ide contains a text placeholder, just click in the placeholder and begin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type titles, subtitles, and body text in placeholde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also can resize the placeholders, move them to another position in the slide, and add formatting to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590-2C30-49D5-BD86-5BEA46FD45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Bo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Text Box command on the Insert menu to add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boxes allow you to place text anywhere on a slide, even outside a placehol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a border, fill, shadow, or three-dimensional (3-D) effect to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980-4BDE-49F5-A0B7-713298578D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toShapes and Word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AutoShapes, such as callout balloons and block arrows,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enter text in an AutoShape, the text is attached to the shape and moves with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ordArt to create ornamental tex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th WordArt, you can stretch, curve, and rotate your text to add even more elaborate effect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D69-BCE1-4B68-AEF5-EB959CFE66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text in a placehol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insertion point where you want to change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your chang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ntents in the Outline pane are automatically updated when you add and edit text in the Slid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0DD-02B0-459B-A041-F36F374901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use a design template, the format of the text on a slide is predetermined, but you can change any formatting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he Formatting toolbar or Font dialog box to change the font, font size, and attributes such as bold, italic, and underlin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pply other attributes, such as color, shadow, superscript, and others, in the Font dialog box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C41-6811-413C-AAA8-AB918DBA2B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9:47Z</dcterms:modified>
  <cp:revision>41</cp:revision>
  <dc:subject/>
  <dc:title>kjjhghgff</dc:title>
</cp:coreProperties>
</file>