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B066-9D07-4636-9AD4-995495EB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C33-5622-4DEF-9FDF-6164EAC5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4772-5734-463C-9FFA-AB464605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364-7E23-4F01-8380-3F030176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CAE7-277F-4C05-9B69-4575AA3E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0E52-26BA-447D-BCB8-264AE144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16A7-002F-44B2-BCA1-EEEEF045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348B-BCA1-469F-9C07-97BC65D7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6C55-ED22-412D-8944-81114D29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9BCA-B6B7-4547-B862-F5401A8C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ED6A-FD7B-4997-90ED-709DDFC0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ECF-2989-43B4-9405-3577DF7E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92A4-ED05-45BE-857A-A6CB1727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E3CF-2FBA-448B-98A0-DB14E232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2092-D691-4D06-BB2A-75EB6E7F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4D2D-A5B1-4C0F-ACEB-C08A7623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C920-1844-494A-AF7F-440C85C5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7B3-8E8E-4FF5-BDA7-5C83A546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D86-94AE-4B7A-B748-76116A55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F94A-1D49-4E8D-81C9-D0F22309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8D5-0D7D-49D8-8D29-7B19D421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22C-4A8A-4C0D-9758-CDBE67DE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663-40CB-46AD-8B6C-1F3B1027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E1B-07EB-4592-96C0-8B64BA77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omputer Literacy 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FC9A-A531-49AD-BD73-68296F12618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72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0E0F-B3CE-4FAF-B41A-D61936FE9E1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Key Applications Module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sson 20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nhancing Presentations with Multimedia Effect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504960" y="2927520"/>
            <a:ext cx="5181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puter Literacy BASIC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Font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813280" cy="34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7F83-7145-4B83-B6BE-0B5D9C8CA9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lecting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modify text appearance, you must first select 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select a single character, a word, a sentence, a paragraph, a block of text, or a li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ce you select text, you can delete it, replace it, change its appearance, move it, copy it, and so 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9403-E242-48D6-9FE4-33CF34B0E53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ays to Select Text in a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85800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F335-914A-4ED0-AF33-79303D9D4E1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 Styles on Sli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ing too many fonts or too many different formats can make the text harder to re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if typefaces (such as Times Roman) have embellishments or curls at the ends of the lett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Serif typefaces are easiest to read and should be used when there are many words on a screen.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ns serif typefaces (such as Arial) have plain strokes with clear and simple curv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Sans serif typefaces are usually heavier and bolder and are appropriate for titles and subtitles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635-4ECD-4CBA-BBBC-68083750426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just Font Size to Fit a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quickly increase the font size to the next increment in the Font Size box, select the text and press Ctrl + ] (closing square bracke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s Ctrl + [ (opening square bracket) to decrease the font size to the previous inc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ontinue pressing the keys for additional increases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E9A-C26B-44AA-A198-A2EDEAE4AD0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ph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Clip art and graphic objects can be added to your slides to add visual appeal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Pictures can be inserted from the Clip Organizer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When you insert and select a clip art object, sizing handles appear around the object to resize i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also drag the border of the picture to move it around on the slid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101-7682-4A5A-BB82-981D29A6F95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serting a Graph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962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The icons in a graphic placeholder allow you to insert tables, charts, clip art, pictures, media clips, diagrams, and organiza-tional charts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lick an icon to open a dialog box to insert the graphic type of your choice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917960" y="2438280"/>
            <a:ext cx="3106800" cy="3505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671560" y="60199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raphic placehold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581280" y="5181480"/>
            <a:ext cx="1295640" cy="914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D2C6-AF05-4EAC-9317-E3C11EFEA0C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serting Clip 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038480" y="2362320"/>
            <a:ext cx="407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Insert Clip Art icon in a graphic placeholder to open the Select Picture dialog box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in the Search text box, key a word to search, and click G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any thumbnail image to insert it on your slid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2654280" cy="35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7102-96ED-4FEA-AEDD-C507723046C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nging Slide Layou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change or add a slide layout in Normal view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lect Slide Layout on the Format menu to open the Slide Layout task pan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re are four categories of slide layouts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 layou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ent layou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 and Content layou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layou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B201-42DB-4B88-95BA-2E9131F738A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lide Layout Task Pa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41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The default layout when you add a new slide to a presentation includes placeholders for a title and text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You can select any slide layout to apply to a slide by selecting the slide in Normal view and then selecting the layout you want to apply from the Slide Layout task pane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Your content and formatting remain and only the layout of the slide will change.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438280"/>
            <a:ext cx="18655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62A-60F5-4BA8-BFB6-A1655B17172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information to a sli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ert pictures and other graph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the slide layou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Slide Mast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C11-82B6-4588-8DF8-A10E0A8AE60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lide Mas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700" spc="-1" strike="noStrike">
                <a:solidFill>
                  <a:srgbClr val="003366"/>
                </a:solidFill>
                <a:latin typeface="Arial"/>
              </a:rPr>
              <a:t>Slide Master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is an element of the design template that stores information about the templat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 Slide Master is automatically provided with every design template in PowerPoin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keep formats, such as font styles and background design, in a Slide Master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also add text or insert graphics that will appear on every pag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2F1A-5648-4CFA-9E1C-A22E72BF71E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ew and Change a Slide Mas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o view a Slide Master, open the View menu, click Master, and then select Slide Master from the submenu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make formatting changes to a Slide Master just as you would to any slid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nly text that should be entered on the Slide Master is in the Header and Footer dialog box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tual slide text, such as text, titles, and lists, must be typed on individual slides in Normal view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CD1-2FDC-4D72-9AE3-5E500DD98E7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lide transitions determine how the display changes from slide to sli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make the current slide fade away before the next one appear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have slides automatically advance after a specified time period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play a sound effect as the slide appear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1103-D045-45F6-9DAC-E1FB85B5A44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i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itions can be applied to single slides or to all slid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Slide Transition task pane to add transi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pen the Slide Transition task pane from the Slide Show menu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81D-F753-4369-8E20-F4DB7FE9D01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imation Effe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apply animation effects, such as exit effects, entrance effects, and emphasis effects, to one slide or to an entire slide sh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1F69-A819-46A6-A959-2E6C929464E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imation Effec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dd animation effect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 Normal view, open the Slide Show menu and choose Custom Animati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ick the Add Effect button in the Custom Animation pane to select a type of animation and then select an effect from the submenu that display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r select the More Effects option to open an effect dialog box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C1B-B8CD-4162-80B0-F508CBBCC0F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dd Exit Effect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408480" y="2438280"/>
            <a:ext cx="2446200" cy="387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D0E-ED82-49A6-8C44-B092873C8A3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ordering Sli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rearrange one or more slides by using drag-and-drop editing or the cut and paste meth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979-ED71-41BD-9297-EF5793BFDBD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ordering Slid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t is easier to use drag-and-drop editing in Slide Sorter view, with all the slides in one screen, but you can also rearrange slides in the Outline pane in Normal view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Select the slide you want to move and then drag the slide to the new location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The insertion point will be displayed as a long vertical line between the two slides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When you release the mouse button, the slide will be repositioned at the new location of the insertion point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7FC-54FC-40B6-BF80-31A4F9D1FBC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lide Sorter 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4618080" cy="37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FEC-42D3-4456-8105-1CA501B3642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transitions between slid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the order of slides in a present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t handouts and notes to accompany a slide sh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9DF-868F-4EBB-920F-BED357F57BB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nting a Pre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re are several ways you can print a PowerPoint presentatio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individual slid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the slide show outli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handou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speaker’s no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use PowerPoint’s Help feature to learn more about how to print a specific element of a presentati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0449-470F-4AB8-BC7A-A7A50D1DD44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nting Handou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o print handouts for a presentatio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en the File menu and click Print Previe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down arrow in the Print What text box to see the options availabl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 one of the Handouts options from the lis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Print button in the Print Preview window to print the handou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u can change the print options, such as the range of pages to print, color or grayscale, and number of copies, in the Print dialog bo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46F1-4844-47FB-B732-0B889F1391E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dd or edit text, a slide must be displayed in Normal view. When you add text or edit text, the slide contents are automatically updated in the Outline pa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want to change the way text looks on a slide, you can select the text and apply different formats. For example, you can change the font style, font size, and font colo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3736-5D36-4052-8CEC-A951E121C43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Pictures help to clarify the message of your presentation. Graphics can make your audience remember your message, and PowerPoint makes it easy for you to add a picture to a slid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t any time in the process of creating a presentation, you can change the layout of one or all the slides in the presentation by selecting a new slide layout in the Slide Layout task pane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2E7-E85E-4011-8AC1-67742D6B21B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lide Master is part of a design template and is used to make uniform changes to slide characteristics, such as background color and font, or to add repeated text or graphics to all slides in a present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lide transition affects how each new slide appears. You can apply transition settings to a single slide or to all the slides in the present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4EF-D862-4963-AEAC-6292A9C7E34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werPoint provides special effects that can enhance how a slide opens or closes or add emphasis, animation, or sound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use drag-and-drop editing to quickly change the order of slides in a presentation in Slide Sorter view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werPoint provides several options for printing a presentation, including handouts, notes pages, and an outline of the slide show conten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DBFF-57AE-48BF-ABD9-39EA6AD1A3C6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p Organiz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it eff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lide Ma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F10-6EBD-4A81-B489-AB726E3F557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ing Information to a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dd text to a slide or to edit the text on a slide, it must be displayed in Normal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slide contains a text placeholder, just click in the placeholder and begin key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type titles, subtitles, and body text in placeholder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also can resize the placeholders, move them to another position in the slide, and add formatting to the tex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8908-C561-4AFD-B1A8-AA82317662F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xt Box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Text Box command on the Insert menu to add a text bo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boxes allow you to place text anywhere on a slide, even outside a placehold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add a border, fill, shadow, or three-dimensional (3-D) effect to a text bo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296-A064-41D6-A92B-5375D1ABF7B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toShapes and Word 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use AutoShapes, such as callout balloons and block arrows, to emphasize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en you enter text in an AutoShape, the text is attached to the shape and moves with i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WordArt to create ornamental text eff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ith WordArt, you can stretch, curve, and rotate your text to add even more elaborate effects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8B8-AE86-40F9-B094-9C5FC50B617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diting Text in a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edit text in a placehold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sition the insertion point where you want to change the tex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ke your change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ontents in the Outline pane are automatically updated when you add and edit text in the Slide pa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42F8-018B-4752-A3CB-21B90BEA6A4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ting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When you use a design template, the format of the text on a slide is predetermined, but you can change any formatting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Use the Formatting toolbar or Font dialog box to change the font, font size, and attributes such as bold, italic, and underlin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apply other attributes, such as color, shadow, superscript, and others, in the Font dialog box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4E35-A238-4F29-B8A0-6EFC6EB3222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1:47:29Z</dcterms:created>
  <dc:creator>Connie Morrison</dc:creator>
  <dc:description/>
  <dc:language>en-US</dc:language>
  <cp:lastModifiedBy>Custom Editorial Productions</cp:lastModifiedBy>
  <dcterms:modified xsi:type="dcterms:W3CDTF">2005-02-08T17:09:47Z</dcterms:modified>
  <cp:revision>41</cp:revision>
  <dc:subject/>
  <dc:title>kjjhghgff</dc:title>
</cp:coreProperties>
</file>