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48620-957A-4753-A15A-D41FD2339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9E1D7-2CEB-4D24-B163-4D594139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0A984-795D-4CA2-A28B-A8A2C0E9C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4AF67-3F92-4FAD-A771-45AB5ACB4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2B5E8-BB85-46BF-9DF3-F2F190936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649DD-74D1-4B02-BCE1-4E619ABEA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A315D-9350-4F7B-BCA3-F62958C14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4B77-0A0F-4A56-9629-5ABA5A8D4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C49F7-4646-48C6-B58B-EF95CF236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B2317-2772-4771-9836-A4A3BB9B2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B4924-5EB1-4833-9FF1-E49DC01C0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B86FD-6C18-4ED4-8BF8-08847B9D3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7785-2C06-4B55-9D4F-0D6AB621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91399-19EB-4896-85D6-F7D3B657E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4AEF-039F-430C-95FF-576D81BF7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9433E-CD50-4163-9240-10E5D62C5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90EAF-C693-479F-948F-C5864070E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20FF3-29CC-469F-AE8D-3D7D9AA0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D8C8-F0F1-4080-9DEC-A75E61C7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F8EF-7C9E-40D6-A1A2-F399163D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53599-F253-49D7-8830-641BA2A9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FAAC-7D04-4E5F-93AA-D0BE9CDB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99C2-8F27-46CD-929F-2BA3E5225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D303-3ADB-455D-8301-9BFA7E707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DFAB-F3FA-4324-950F-6A499DA768E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617B-2FBB-41FA-A3E6-45C9DE6A7A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5C58B35A-B8CB-4C17-BDC4-A1BF13E90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EBE4287-74C7-4A33-9259-7A5B6D6FEF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F3E8228-B8FD-4C59-97BB-F4A91CDEE7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91BC646-2387-442A-9648-7783DC3C75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64936D1-6E64-4AED-A579-F7BEBDF4FE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3C95FF6-9CD6-4939-BAAA-DEB677B66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4DE68ED-8328-4EFA-8F82-333235E3B1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BCF9C95-DDD2-433D-8A9B-5D80D4FCF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732F73D-381D-44D7-B5B4-BF89BC8418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3FE54B-BE3E-459B-9530-1D02C9178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ACEEBDC-3397-43D7-9A88-8A3F4DC623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AEDA18-785C-4E6F-8447-0593E114C8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90B784-7F6A-4949-8509-971EE2020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58D54BC-76A4-4CAD-BD16-E87131C04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BF1889A-0EDE-47B0-AA6D-661F49113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Insert menu and then click Slides from Files</a:t>
            </a:r>
            <a:r>
              <a:rPr b="0" i="1" lang="en-US" sz="2600" spc="-1" strike="noStrike">
                <a:solidFill>
                  <a:srgbClr val="003366"/>
                </a:solidFill>
                <a:latin typeface="Arial"/>
              </a:rPr>
              <a:t> </a:t>
            </a:r>
            <a:r>
              <a:rPr b="0" lang="en-US" sz="2600" spc="-1" strike="noStrike">
                <a:solidFill>
                  <a:srgbClr val="003366"/>
                </a:solidFill>
                <a:latin typeface="Arial"/>
              </a:rPr>
              <a:t>to open the Slide Finder dialog box.</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57FD75F-0CC7-4B21-B018-72D04D488E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31700634-6D1A-42AF-92AB-D197B7C009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add slides to a presentation, you should preview it to look for errors and see how your slides app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preview a presentation, 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E268485-884D-421F-B329-F6B3448094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6B9BCF-8023-446A-892B-349DBEA8C6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224249C-A3AA-4146-96ED-578960BA9A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3D471F-5359-49BE-BED8-E64A91F9AF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80A36C5-E549-4E66-A9B9-CCE313A1BC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1D2AC8-8143-45DF-83C7-E8FB990155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67AA724-DB09-4DD9-9D9E-FF20A40593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378C43-AEED-4858-83D1-CB5E05AE53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7EAE505-2415-4399-AE43-4E892001D91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lnSpc>
                <a:spcPct val="10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86D4027-1C79-47CD-97E8-8ED30020933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54E6A88-7B9E-4879-99F2-93997ED3D03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78B9839-D2FB-4956-8044-C879437889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31A64FD-C21E-4B5D-8128-99692E4320F9}"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helps you 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sentations can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many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872153-E73D-420D-8566-B367D8DD8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you start PowerPoint, the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73AA778-F6FC-477C-8BDB-D7444AD426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ave a presentation with the same commands you learned in Word and Excel, using the Save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the Save As command on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ave a presentation so it can be viewed in a Web browser by selecting Save as Web Page from the File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AC219A-A2EB-46AD-A3E6-8BB68D399E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AF025B-2384-4B37-B248-B753BD319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AD36FA0-3DCF-4E1A-B33D-F4AA1E2B2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724F528-2DBB-4E8D-99D3-1016DC5B63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7T17:27:34Z</dcterms:modified>
  <cp:revision>38</cp:revision>
  <dc:subject/>
  <dc:title>kjjhghgff</dc:title>
</cp:coreProperties>
</file>