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3084A-CA4F-4865-82E3-4C994659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9B3EE-676F-481D-9E7D-E1279703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05529-7C8B-4CD2-AF99-C6A8550A4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C5F22-C1B8-47C4-A233-8787F14AC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4FB31-C169-46A5-BD94-17FDA5CEE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73B4E-DD6C-4824-B1C3-8C7A15051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20BEF-4F54-4FD4-B6CE-FE7379E3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73E89-7883-4FB7-BE36-836D64852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3471D-5FBC-4421-B57D-3D750CDCC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D201B-A4E0-45CC-A3BC-F6B624F16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CE12-3E12-4DF8-A7B0-AC1A80C08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F2D5-289C-407B-8C17-6B368393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F6E7D-C805-4F61-AD37-41DFF25A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6231F-4433-4BC8-ACAB-2DC39CC7E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95D02-3389-413D-A477-AE4AE5568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CE9D1-DFA0-4F2A-BF94-3895D5067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8BF4F-B5D5-4AC2-A551-AF5795963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9AE99-39BD-42DA-B2C6-CFD94C7F9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6B116-7E11-4B4C-BC44-20B4219C2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6B654-D3B2-450A-88C3-A2AD057BC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6F51-040C-4219-9588-C696E5E5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F3D6-E054-42EC-A2D7-12664CD12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F77E2-0BA9-4938-B3A6-E96B1F049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0158-1651-4938-B6EA-5A6863E69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EEBB-EBCB-4C67-A345-4649DDC7A8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AE0D-937F-44DA-9FE0-8F186F32A98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press F2,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523CC6A-DF0B-4DF1-968A-4278A7EC6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1377954-3DE6-45A6-A192-A4C99F69AD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C0A892B-C744-4EF8-A078-31F118870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5320144-0656-4FA6-B93C-A917FD003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623FD39-188A-4424-94BA-DF054DACAF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8D5BDC5-2AA5-4CDB-BF1A-C6BD27313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E41412-6BDA-46AB-A610-6CBF19CA4B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E2205BD-17C3-43AF-9BF2-A269B8DD7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5B82B2-D987-416B-B429-248340AD63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B55E28-D9CF-469F-B4E6-60C04E0904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0B7E099-6787-4818-BD10-7C53108F00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1C4182E-273B-439B-BD3F-FDB739871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1DD2B8-F9CA-4AB5-9070-673120D1E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A31A8A-E4B3-4CFD-9A00-D7DAEBBCE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002B80B-8B1A-47F1-AB3F-615B40CB4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17220F9-7C9C-42AB-AFAB-2D2BE0DF3A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AB783F-7626-48F0-9959-A21A4840B9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CD0D3DE-463A-457C-BD59-4A0DFDCE5C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F3C13D7-FD23-47A9-AFD4-E34E17432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E0C3963-7618-4F9A-A8BE-8A738D1582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1B5CF3C-04A3-4C7D-9C04-4608DC7FAD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8A2FAF3-47C9-425A-AFD9-365FE9FC17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020C92AF-1CFE-4008-B88E-12DF7375B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165EAB8-EA1C-4CE1-BE6B-0C9EE14099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AB620E-1231-465F-93EB-1E4F960F002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445E304-A699-4989-A35A-293B01BF67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C4F31F-E9A2-41D2-B4AB-5B8EBF1231C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6B3E1FA-7A3D-47A4-9082-5BF96FAEB84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94BC2B52-43B3-4ABD-8FBA-7C908751C8D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18DB8F2-E31A-46BB-B881-C9F1842B5E9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6959B9D-A3C9-4293-9E26-1E31720873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0A1C2E8-A983-4D4D-9409-99A6832F73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60E28FFC-7029-4F62-95D4-D71844EC15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736AEDA-8D08-45F8-A416-5235DABD00D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1F71857-273A-4B8D-8A7F-B50F7977C2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7C082F-9713-4016-BE59-B7C8DC820A8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E00571F-5ED4-4A88-B84F-FA0828F400F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4C4DD93-349E-4CF3-9B8E-00FEB5E334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073402F-2BFE-41D8-A5C9-47252EB4A5B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80DA44E-FFA9-41B4-B0BB-2552D1D5E4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AC3E21-9C61-4308-945A-8813808A8318}"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6C7E101-1A9A-42EB-980D-D45EC6D792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F0A4F84-F01B-4EA6-9FC3-16F6937F4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9D3CD2C-3A79-41CE-BB6E-FE7CAEDB80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6FB67A5-F584-4D5F-9E80-61704DAF3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F4FA76-97E5-498D-8F2C-0CF143B80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6:45:49Z</dcterms:modified>
  <cp:revision>41</cp:revision>
  <dc:subject/>
  <dc:title>kjjhghgff</dc:title>
</cp:coreProperties>
</file>