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188A6-FD0A-47E4-8529-FC769F1EC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A52CC-A4D2-4594-9AEC-9C2D5520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E1241-6289-4BDC-925B-4F59916B4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8F085-9AD6-4FC2-A319-C2D919495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81A72-1DAD-4BD9-87A9-1B52A396B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0CAC4-10E1-4882-8C8D-2F7793EF9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5982F-C72C-4A2A-A9AB-162717434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371C8-D0AE-424B-A388-9E841709D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B626E-CF2B-4C26-A388-083E77BF3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A9CA5-08CB-481A-B238-FCD46F873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FE2B-7DFA-43F9-B517-0C4DAE86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B7FA-00BC-4C31-9E4B-F7DCB0D6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39787-7BEC-4A29-BC53-9D6654960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94A29-1C56-48EB-AC16-249ABCFF5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04ED3-F828-4068-BED9-13E7F8958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5FC7F-9B80-4AAF-B5C5-C951F1FF3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C3D38-A8B9-43C1-93CB-D9005B532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B89E-EA2D-4473-AA4D-62A5CB64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7254-5DC5-4AAD-8553-C7F9146EB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F641-FDDA-4AD7-BE9C-7CEE191C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60245-4BC5-451E-950B-9D89CD87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DEC6-F4EA-4E30-A066-6723F33B9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4107E-7110-45BA-B3DC-AFD5E320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42DC-6D9D-404A-92A3-124081FB4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622D-7C07-469D-86A0-E5075DED2F8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46E4-9037-4564-B535-1036B33626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7 </a:t>
            </a:r>
            <a:r>
              <a:rPr b="1" lang="en-US" sz="2800" spc="-1" strike="noStrike">
                <a:solidFill>
                  <a:srgbClr val="003366"/>
                </a:solidFill>
                <a:latin typeface="Arial"/>
              </a:rPr>
              <a:t>— </a:t>
            </a:r>
            <a:r>
              <a:rPr b="1" lang="en-US" sz="3200" spc="-1" strike="noStrike">
                <a:solidFill>
                  <a:srgbClr val="003366"/>
                </a:solidFill>
                <a:latin typeface="Arial"/>
              </a:rPr>
              <a:t>Organizing Workshee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Multiple Worksheets</a:t>
            </a:r>
            <a:endParaRPr b="1" lang="en-US" sz="3600" spc="-1" strike="noStrike">
              <a:solidFill>
                <a:srgbClr val="006666"/>
              </a:solidFill>
              <a:latin typeface="Arial"/>
            </a:endParaRPr>
          </a:p>
        </p:txBody>
      </p:sp>
      <p:sp>
        <p:nvSpPr>
          <p:cNvPr id="120" name="PlaceHolder 2"/>
          <p:cNvSpPr>
            <a:spLocks noGrp="1"/>
          </p:cNvSpPr>
          <p:nvPr>
            <p:ph/>
          </p:nvPr>
        </p:nvSpPr>
        <p:spPr>
          <a:xfrm>
            <a:off x="837720" y="2361960"/>
            <a:ext cx="71629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open a new document in Excel, it automatically contains three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documents are called workbooks, and each workbook contains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ab for each worksheet is visible at the bottom of the scre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tab to switch to that workshee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the tab to enter a new nam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additional worksheets using the Worksheet option on the Insert menu.</a:t>
            </a:r>
            <a:endParaRPr b="0" lang="en-US" sz="2400" spc="-1" strike="noStrike">
              <a:solidFill>
                <a:srgbClr val="003366"/>
              </a:solidFill>
              <a:latin typeface="Arial"/>
            </a:endParaRPr>
          </a:p>
        </p:txBody>
      </p:sp>
      <p:pic>
        <p:nvPicPr>
          <p:cNvPr id="121" name="" descr=""/>
          <p:cNvPicPr/>
          <p:nvPr/>
        </p:nvPicPr>
        <p:blipFill>
          <a:blip r:embed="rId1"/>
          <a:stretch/>
        </p:blipFill>
        <p:spPr>
          <a:xfrm>
            <a:off x="6477120" y="4572000"/>
            <a:ext cx="2135160" cy="455760"/>
          </a:xfrm>
          <a:prstGeom prst="rect">
            <a:avLst/>
          </a:prstGeom>
          <a:ln w="0">
            <a:noFill/>
          </a:ln>
        </p:spPr>
      </p:pic>
      <p:sp>
        <p:nvSpPr>
          <p:cNvPr id="122" name=""/>
          <p:cNvSpPr/>
          <p:nvPr/>
        </p:nvSpPr>
        <p:spPr>
          <a:xfrm>
            <a:off x="7010280" y="5486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sheet tabs</a:t>
            </a:r>
            <a:endParaRPr b="0" lang="en-US" sz="1800" spc="-1" strike="noStrike">
              <a:solidFill>
                <a:srgbClr val="003366"/>
              </a:solidFill>
              <a:latin typeface="Arial"/>
            </a:endParaRPr>
          </a:p>
        </p:txBody>
      </p:sp>
      <p:sp>
        <p:nvSpPr>
          <p:cNvPr id="123" name=""/>
          <p:cNvSpPr/>
          <p:nvPr/>
        </p:nvSpPr>
        <p:spPr>
          <a:xfrm flipH="1" flipV="1">
            <a:off x="7238520" y="480024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V="1">
            <a:off x="7620120" y="4800240"/>
            <a:ext cx="759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flipV="1">
            <a:off x="7620120" y="4800240"/>
            <a:ext cx="6094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469315-831F-4D26-A913-0778479B6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rting Data</a:t>
            </a:r>
            <a:endParaRPr b="1" lang="en-US" sz="3600" spc="-1" strike="noStrike">
              <a:solidFill>
                <a:srgbClr val="006666"/>
              </a:solidFill>
              <a:latin typeface="Arial"/>
            </a:endParaRPr>
          </a:p>
        </p:txBody>
      </p:sp>
      <p:sp>
        <p:nvSpPr>
          <p:cNvPr id="12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ort Excel data, select a column to sort on.</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data in all rows will move accordingly with the sorted field.</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cel can determine whether your worksheet has a header row and will not include that row in the sort process.</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Ascending button to sort the data in ascending order, from A to Z or smallest to large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Descending button to sort the data in descending order, from Z to A or largest to smallest.</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D6ABDF-512B-4AF9-A534-8F3AA83FC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ort Dialog Box</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base a sort on data in up to three different columns in a worksheet.</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sort a worksheet by multiple criteria, open the Sort dialog box by selecting Sort on the Data menu.</a:t>
            </a:r>
            <a:endParaRPr b="0" lang="en-US" sz="2600" spc="-1" strike="noStrike">
              <a:solidFill>
                <a:srgbClr val="003366"/>
              </a:solidFill>
              <a:latin typeface="Arial"/>
            </a:endParaRPr>
          </a:p>
        </p:txBody>
      </p:sp>
      <p:pic>
        <p:nvPicPr>
          <p:cNvPr id="130" name="" descr=""/>
          <p:cNvPicPr/>
          <p:nvPr/>
        </p:nvPicPr>
        <p:blipFill>
          <a:blip r:embed="rId1"/>
          <a:stretch/>
        </p:blipFill>
        <p:spPr>
          <a:xfrm>
            <a:off x="4952880" y="2514600"/>
            <a:ext cx="3311640" cy="350532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EFB0BE5-8F15-4617-A7A9-495E82D37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Print Pre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has a Print Preview mode that you can access from the Print Preview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llows you to see the worksheet as it will look when it is printed and to look for errors before prin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Page Setup dialog box to fix errors if you find problems with the document form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B4F6609-97C4-4720-B4D9-3495EB209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ge Setup Dialog Box</a:t>
            </a:r>
            <a:endParaRPr b="1" lang="en-US" sz="3600" spc="-1" strike="noStrike">
              <a:solidFill>
                <a:srgbClr val="006666"/>
              </a:solidFill>
              <a:latin typeface="Arial"/>
            </a:endParaRPr>
          </a:p>
        </p:txBody>
      </p:sp>
      <p:sp>
        <p:nvSpPr>
          <p:cNvPr id="134" name="PlaceHolder 1"/>
          <p:cNvSpPr>
            <a:spLocks noGrp="1"/>
          </p:cNvSpPr>
          <p:nvPr>
            <p:ph/>
          </p:nvPr>
        </p:nvSpPr>
        <p:spPr>
          <a:xfrm>
            <a:off x="4419360" y="2514240"/>
            <a:ext cx="411156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lect the Page Setup option on the File menu to open the Page Setup dialog box.</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r you can click the Setup button in the Print Preview window to open the dialog box.</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pic>
        <p:nvPicPr>
          <p:cNvPr id="135" name="" descr=""/>
          <p:cNvPicPr/>
          <p:nvPr/>
        </p:nvPicPr>
        <p:blipFill>
          <a:blip r:embed="rId1"/>
          <a:stretch/>
        </p:blipFill>
        <p:spPr>
          <a:xfrm>
            <a:off x="1066680" y="2590920"/>
            <a:ext cx="3276720" cy="2579400"/>
          </a:xfrm>
          <a:prstGeom prst="rect">
            <a:avLst/>
          </a:prstGeom>
          <a:ln w="0">
            <a:noFill/>
          </a:ln>
        </p:spPr>
      </p:pic>
      <p:sp>
        <p:nvSpPr>
          <p:cNvPr id="136" name=""/>
          <p:cNvSpPr/>
          <p:nvPr/>
        </p:nvSpPr>
        <p:spPr>
          <a:xfrm>
            <a:off x="1295280" y="5486400"/>
            <a:ext cx="283536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Page tab in the dialog box if necessary.</a:t>
            </a:r>
            <a:endParaRPr b="0" lang="en-US" sz="1800" spc="-1" strike="noStrike">
              <a:solidFill>
                <a:srgbClr val="003366"/>
              </a:solidFill>
              <a:latin typeface="Arial"/>
            </a:endParaRPr>
          </a:p>
        </p:txBody>
      </p:sp>
      <p:sp>
        <p:nvSpPr>
          <p:cNvPr id="137" name=""/>
          <p:cNvSpPr/>
          <p:nvPr/>
        </p:nvSpPr>
        <p:spPr>
          <a:xfrm flipV="1">
            <a:off x="2438280" y="4648320"/>
            <a:ext cx="4572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DDE972-BD0C-4219-BAC8-D1A70F8D46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Page Setup</a:t>
            </a:r>
            <a:endParaRPr b="1" lang="en-US" sz="3600" spc="-1" strike="noStrike">
              <a:solidFill>
                <a:srgbClr val="006666"/>
              </a:solidFill>
              <a:latin typeface="Arial"/>
            </a:endParaRPr>
          </a:p>
        </p:txBody>
      </p:sp>
      <p:sp>
        <p:nvSpPr>
          <p:cNvPr id="13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ometimes a column or two does not fit on the same page as the rest of the data when you preview a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Page Setup options to adjust the layou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nge the orientation to Landscape to make the paper wider than it is tall. </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e the Fit to command to scale the worksheet up or down to fit on the number of pages you designate.</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9A6D07-34AE-4AF5-8EE9-94FB73092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Margins</a:t>
            </a:r>
            <a:endParaRPr b="1" lang="en-US" sz="3600" spc="-1" strike="noStrike">
              <a:solidFill>
                <a:srgbClr val="006666"/>
              </a:solidFill>
              <a:latin typeface="Arial"/>
            </a:endParaRPr>
          </a:p>
        </p:txBody>
      </p:sp>
      <p:pic>
        <p:nvPicPr>
          <p:cNvPr id="141" name="" descr=""/>
          <p:cNvPicPr/>
          <p:nvPr/>
        </p:nvPicPr>
        <p:blipFill>
          <a:blip r:embed="rId1"/>
          <a:stretch/>
        </p:blipFill>
        <p:spPr>
          <a:xfrm>
            <a:off x="4114800" y="2514600"/>
            <a:ext cx="4429080" cy="3484440"/>
          </a:xfrm>
          <a:prstGeom prst="rect">
            <a:avLst/>
          </a:prstGeom>
          <a:ln w="0">
            <a:noFill/>
          </a:ln>
        </p:spPr>
      </p:pic>
      <p:sp>
        <p:nvSpPr>
          <p:cNvPr id="142" name=""/>
          <p:cNvSpPr/>
          <p:nvPr/>
        </p:nvSpPr>
        <p:spPr>
          <a:xfrm>
            <a:off x="990720" y="2819520"/>
            <a:ext cx="2590560" cy="17398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Margins tab in the Page Setup dialog box to adjust the amount of white space around a worksheet when it prints.</a:t>
            </a:r>
            <a:endParaRPr b="0" lang="en-US" sz="1800" spc="-1" strike="noStrike">
              <a:solidFill>
                <a:srgbClr val="003366"/>
              </a:solidFill>
              <a:latin typeface="Arial"/>
            </a:endParaRPr>
          </a:p>
        </p:txBody>
      </p:sp>
      <p:sp>
        <p:nvSpPr>
          <p:cNvPr id="143" name=""/>
          <p:cNvSpPr/>
          <p:nvPr/>
        </p:nvSpPr>
        <p:spPr>
          <a:xfrm flipV="1">
            <a:off x="3581280" y="3124080"/>
            <a:ext cx="12193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A89EA9B-1D4F-46F7-BB35-A535E86C0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Alignment</a:t>
            </a:r>
            <a:endParaRPr b="1" lang="en-US" sz="3600" spc="-1" strike="noStrike">
              <a:solidFill>
                <a:srgbClr val="006666"/>
              </a:solidFill>
              <a:latin typeface="Arial"/>
            </a:endParaRPr>
          </a:p>
        </p:txBody>
      </p:sp>
      <p:sp>
        <p:nvSpPr>
          <p:cNvPr id="145" name="PlaceHolder 2"/>
          <p:cNvSpPr>
            <a:spLocks noGrp="1"/>
          </p:cNvSpPr>
          <p:nvPr>
            <p:ph/>
          </p:nvPr>
        </p:nvSpPr>
        <p:spPr>
          <a:xfrm>
            <a:off x="837720" y="2362320"/>
            <a:ext cx="80010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asic cell content alignment—left, center, and right—can be applied by selecting the data and clicking the appropriate button on the Formatting 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alignment options available on the Alignment tab of the Format Cells dialog box include</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enter cell content across selected merged cell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ient cell contents to set at an angl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djust the vertical alignment of cell contents to top, bottom, justified, or distributed.</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634D688-8E73-40EA-89A5-83FAB8780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igning and Wrapping Cell Dat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also can select an option on the Alignment tab of the Format Cells dialog box to shrink the content to fit within th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select the text wrap option to wrap to new lines within a cell if the contents do not fit on one li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2A0CFBA-37B6-47AF-8BDC-A78D32599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a:t>
            </a:r>
            <a:endParaRPr b="1" lang="en-US" sz="3600" spc="-1" strike="noStrike">
              <a:solidFill>
                <a:srgbClr val="006666"/>
              </a:solidFill>
              <a:latin typeface="Arial"/>
            </a:endParaRPr>
          </a:p>
        </p:txBody>
      </p:sp>
      <p:sp>
        <p:nvSpPr>
          <p:cNvPr id="149" name="PlaceHolder 1"/>
          <p:cNvSpPr>
            <a:spLocks noGrp="1"/>
          </p:cNvSpPr>
          <p:nvPr>
            <p:ph/>
          </p:nvPr>
        </p:nvSpPr>
        <p:spPr>
          <a:xfrm>
            <a:off x="837720" y="236232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that appear in your worksheet on the screen do not print by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add gridlines to a printed worksheet or remove them from your on-screen worksheet if you pref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4EC53F-3428-46AC-A307-F854AC249A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erge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Fill a data series in adjacent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Use AutoFormat to format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multiple worksheets.</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ort data in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page setup.</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headers and footers to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nd print a worksheet.</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4B8EF81-336F-47B4-93AA-AEEBDD508D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move gridlines from the on-screen workshee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Options on the Tools menu and then choose the View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In the Window options section, deselect Gridlines and then click OK.</a:t>
            </a:r>
            <a:endParaRPr b="0" lang="en-US" sz="23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gridlines to the printed documen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pen the Page Setup dialog box and choose the Sheet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Gridlines in the Print section.</a:t>
            </a:r>
            <a:endParaRPr b="0" lang="en-US" sz="2300" spc="-1" strike="noStrike">
              <a:solidFill>
                <a:srgbClr val="003366"/>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207259-5F75-4237-8B9F-1EFC13384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der is information that appears at the top of every page when the worksheet is prin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oter is information that prints at the bottom of every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are only visible in Print Preview mode or when the worksheet is actually pri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B9E3AD-BCE3-4E1C-81EB-831C17CF10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Tab</a:t>
            </a:r>
            <a:endParaRPr b="1" lang="en-US" sz="3600" spc="-1" strike="noStrike">
              <a:solidFill>
                <a:srgbClr val="006666"/>
              </a:solidFill>
              <a:latin typeface="Arial"/>
            </a:endParaRPr>
          </a:p>
        </p:txBody>
      </p:sp>
      <p:sp>
        <p:nvSpPr>
          <p:cNvPr id="155" name="PlaceHolder 1"/>
          <p:cNvSpPr>
            <a:spLocks noGrp="1"/>
          </p:cNvSpPr>
          <p:nvPr>
            <p:ph/>
          </p:nvPr>
        </p:nvSpPr>
        <p:spPr>
          <a:xfrm>
            <a:off x="4191120" y="2362320"/>
            <a:ext cx="45720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add a header or footer, select the Header/Footer tab in the Page Setup dialog box.</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eaders and footers are used to provide descriptive text such as the date the worksheet was printed, the name of the person or company who created the worksheet, or the filename of the workbook.</a:t>
            </a:r>
            <a:endParaRPr b="0" lang="en-US" sz="2300" spc="-1" strike="noStrike">
              <a:solidFill>
                <a:srgbClr val="003366"/>
              </a:solidFill>
              <a:latin typeface="Arial"/>
            </a:endParaRPr>
          </a:p>
        </p:txBody>
      </p:sp>
      <p:pic>
        <p:nvPicPr>
          <p:cNvPr id="156" name="" descr=""/>
          <p:cNvPicPr/>
          <p:nvPr/>
        </p:nvPicPr>
        <p:blipFill>
          <a:blip r:embed="rId1"/>
          <a:stretch/>
        </p:blipFill>
        <p:spPr>
          <a:xfrm>
            <a:off x="990720" y="3048120"/>
            <a:ext cx="3124080" cy="2457360"/>
          </a:xfrm>
          <a:prstGeom prst="rect">
            <a:avLst/>
          </a:prstGeom>
          <a:ln w="0">
            <a:noFill/>
          </a:ln>
        </p:spPr>
      </p:pic>
      <p:sp>
        <p:nvSpPr>
          <p:cNvPr id="157" name=""/>
          <p:cNvSpPr/>
          <p:nvPr/>
        </p:nvSpPr>
        <p:spPr>
          <a:xfrm>
            <a:off x="1510560" y="23986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ader text</a:t>
            </a:r>
            <a:endParaRPr b="0" lang="en-US" sz="1800" spc="-1" strike="noStrike">
              <a:solidFill>
                <a:srgbClr val="003366"/>
              </a:solidFill>
              <a:latin typeface="Arial"/>
            </a:endParaRPr>
          </a:p>
        </p:txBody>
      </p:sp>
      <p:sp>
        <p:nvSpPr>
          <p:cNvPr id="158" name=""/>
          <p:cNvSpPr/>
          <p:nvPr/>
        </p:nvSpPr>
        <p:spPr>
          <a:xfrm>
            <a:off x="1433520" y="5751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oter text</a:t>
            </a:r>
            <a:endParaRPr b="0" lang="en-US" sz="1800" spc="-1" strike="noStrike">
              <a:solidFill>
                <a:srgbClr val="003366"/>
              </a:solidFill>
              <a:latin typeface="Arial"/>
            </a:endParaRPr>
          </a:p>
        </p:txBody>
      </p:sp>
      <p:sp>
        <p:nvSpPr>
          <p:cNvPr id="159" name=""/>
          <p:cNvSpPr/>
          <p:nvPr/>
        </p:nvSpPr>
        <p:spPr>
          <a:xfrm flipH="1">
            <a:off x="1371240" y="2666880"/>
            <a:ext cx="6858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V="1">
            <a:off x="1905120" y="4952520"/>
            <a:ext cx="15228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flipV="1">
            <a:off x="1905120" y="4952520"/>
            <a:ext cx="12189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4E2DFE-D63F-402C-8940-A792208FD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ting a Worksheet</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rint button on the Standard toolbar to print the worksheet with default sett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Print dialog box by selecting Print on the File menu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the entire workboo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a selected area of the workshee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multiple cop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different printer.</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D0E6B0-8B62-40B4-A0FF-F227618E7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rint Dialog Box</a:t>
            </a:r>
            <a:endParaRPr b="1" lang="en-US" sz="3600" spc="-1" strike="noStrike">
              <a:solidFill>
                <a:srgbClr val="006666"/>
              </a:solidFill>
              <a:latin typeface="Arial"/>
            </a:endParaRPr>
          </a:p>
        </p:txBody>
      </p:sp>
      <p:pic>
        <p:nvPicPr>
          <p:cNvPr id="165" name="" descr=""/>
          <p:cNvPicPr/>
          <p:nvPr/>
        </p:nvPicPr>
        <p:blipFill>
          <a:blip r:embed="rId1"/>
          <a:stretch/>
        </p:blipFill>
        <p:spPr>
          <a:xfrm>
            <a:off x="2054160" y="2630520"/>
            <a:ext cx="4880160" cy="34560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558D6A7-DAF7-4215-A495-92F8A053D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eet Page Breaks</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a worksheet is more than one page in length, Excel determines where page breaks should occu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 don’t like where Excel sets them, you can create your own page break by dragging the page break indicator to a new location in the work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insert a manual page break by selecting Page Break on the Inse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472919-9BA6-4087-BFC1-39D6D90D96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a:t>
            </a:r>
            <a:endParaRPr b="1" lang="en-US" sz="3600" spc="-1" strike="noStrike">
              <a:solidFill>
                <a:srgbClr val="006666"/>
              </a:solidFill>
              <a:latin typeface="Arial"/>
            </a:endParaRPr>
          </a:p>
        </p:txBody>
      </p:sp>
      <p:sp>
        <p:nvSpPr>
          <p:cNvPr id="169"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heck the progress of a print job, double-click the Printer icon that appears on the taskbar when a job is printing.</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rint queue, a list of print jobs currently in progress, will display.</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FF7C747-2F38-4871-A55B-B205D83B24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 (cont.)</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ancel a print job, select the document name and then click Cancel Printing on the Documen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Pause Printing command on the Document menu to stop the print job temporarily.</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start printing, deselect the Pause Printing comman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0D520F0-36C0-4418-B4D3-DCFD7BA174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want text to span across several rows or columns, you can merge multiple cells into a singl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can recognize a pattern in numbers or text and fill a series based on the patte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AutoFill to fill cells with or without formatting from the source cell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F908EF1-C14B-4355-A9A6-9C1BB5546A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AutoFormats can give your worksheet a professional look quickly and can make reading the data eas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or add one or several worksheets to a workbook, and you can rename each workshe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61C18C9-915F-4DAA-9355-66B15EC77E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ending o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ending ord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 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rge</a:t>
            </a:r>
            <a:endParaRPr b="0" lang="en-US" sz="2800" spc="-1" strike="noStrike">
              <a:solidFill>
                <a:srgbClr val="003366"/>
              </a:solidFill>
              <a:latin typeface="Arial"/>
            </a:endParaRPr>
          </a:p>
        </p:txBody>
      </p:sp>
      <p:sp>
        <p:nvSpPr>
          <p:cNvPr id="101"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AD914414-AF33-472C-9D09-5E252962DA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Sort feature provides options for organizing worksheet data numerically or alphabetically. You can sort the data based on a single column, or you can sort the data based on multiple criteria.</a:t>
            </a:r>
            <a:endParaRPr b="0" lang="en-US" sz="2700" spc="-1" strike="noStrike">
              <a:solidFill>
                <a:srgbClr val="003366"/>
              </a:solidFill>
              <a:latin typeface="Arial"/>
            </a:endParaRPr>
          </a:p>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lignment tab of the Format Cells dialog box offers advanced alignment options for cell contents, including wrapping text to new lines and orienting text vertically or at an angle.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68E6B40-DDC1-4133-99E1-E3FB3CA5FD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you print, you can preview the worksheet on the screen to see what it will look like when it is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page orientation or use the Fit to feature to fit all of the data on on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D883C46-F092-4E00-9B1F-5DDFA05345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normally appear on screen in worksheets but do not appear when the worksheets are printed, but you can hide the gridlines on screen or have the gridlines appear in a printed worksheet by selecting appropriat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can be added to worksheets to provide information, such as the source and date of the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42984E0-2604-44F5-A8E9-73E17A29DC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ing page breaks manually or selecting part of a worksheet as a print area control the appearance of the print outp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oose to print the active worksheet only, or you can choose to print all worksheets in the workboo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8F433D-A259-4CC1-844E-38FFE1DF861E}"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ging Cel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join two or more adjacent cells togeth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is allows you to create larger cells to accommodate a head that spans several columns, headers or footers, or long text field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irst select the cells to be merg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Merge and Center button on the Standard toolbar.</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2334A98-1E14-4E83-A807-8FBE10E7E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 with AutoFill</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762012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AutoFill feature to fill in a series of numbers and dat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o so, a pattern must be established in the initially selected cell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drag the fill handle, the pattern is continued.</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down or to the right, the series increase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up or to the left, the series decreases.</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4CFD146-43EC-49BE-A183-5CAFC95A07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 Options</a:t>
            </a:r>
            <a:endParaRPr b="1" lang="en-US" sz="3600" spc="-1" strike="noStrike">
              <a:solidFill>
                <a:srgbClr val="006666"/>
              </a:solidFill>
              <a:latin typeface="Arial"/>
            </a:endParaRPr>
          </a:p>
        </p:txBody>
      </p:sp>
      <p:pic>
        <p:nvPicPr>
          <p:cNvPr id="107" name="" descr=""/>
          <p:cNvPicPr/>
          <p:nvPr/>
        </p:nvPicPr>
        <p:blipFill>
          <a:blip r:embed="rId1"/>
          <a:stretch/>
        </p:blipFill>
        <p:spPr>
          <a:xfrm>
            <a:off x="6019920" y="2652840"/>
            <a:ext cx="2286000" cy="1665000"/>
          </a:xfrm>
          <a:prstGeom prst="rect">
            <a:avLst/>
          </a:prstGeom>
          <a:ln w="0">
            <a:noFill/>
          </a:ln>
        </p:spPr>
      </p:pic>
      <p:sp>
        <p:nvSpPr>
          <p:cNvPr id="108" name="PlaceHolder 1"/>
          <p:cNvSpPr>
            <a:spLocks noGrp="1"/>
          </p:cNvSpPr>
          <p:nvPr>
            <p:ph/>
          </p:nvPr>
        </p:nvSpPr>
        <p:spPr>
          <a:xfrm>
            <a:off x="837720" y="2286000"/>
            <a:ext cx="4953240" cy="45720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point to the AutoFill Options button (below the fill handle), the button expands to show a down arr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down arrow to display a shortcut menu with options to copy the content of the cells, fill the selected cells with formatting only, or fill the cells without the formatting. </a:t>
            </a:r>
            <a:endParaRPr b="0" lang="en-US" sz="2500" spc="-1" strike="noStrike">
              <a:solidFill>
                <a:srgbClr val="003366"/>
              </a:solidFill>
              <a:latin typeface="Arial"/>
            </a:endParaRPr>
          </a:p>
        </p:txBody>
      </p:sp>
      <p:sp>
        <p:nvSpPr>
          <p:cNvPr id="109" name=""/>
          <p:cNvSpPr/>
          <p:nvPr/>
        </p:nvSpPr>
        <p:spPr>
          <a:xfrm>
            <a:off x="6019920" y="4495680"/>
            <a:ext cx="22860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utoFill Options shortcut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D45185-29F7-47D0-99B8-7136934E74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a:t>
            </a:r>
            <a:endParaRPr b="1" lang="en-US" sz="3600" spc="-1" strike="noStrike">
              <a:solidFill>
                <a:srgbClr val="006666"/>
              </a:solidFill>
              <a:latin typeface="Arial"/>
            </a:endParaRPr>
          </a:p>
        </p:txBody>
      </p:sp>
      <p:sp>
        <p:nvSpPr>
          <p:cNvPr id="11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predefined worksheet formats that can be used to give your worksheet a professional l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Formats include font styles, colors, borders, shading, and other featu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DAD9CD1-F3CA-4292-A59D-B893DBD9F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 (cont.)</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pply an AutoForma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you want to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the AutoFormat option on the Forma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through the available styles and select one you lik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K to apply the AutoFormat to your workshe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modify formats after they are applie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3CCF587-E004-48B2-A695-253A4D389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utoFormat Dialog Box</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2666880"/>
            <a:ext cx="4419720" cy="3490920"/>
          </a:xfrm>
          <a:prstGeom prst="rect">
            <a:avLst/>
          </a:prstGeom>
          <a:ln w="0">
            <a:noFill/>
          </a:ln>
        </p:spPr>
      </p:pic>
      <p:sp>
        <p:nvSpPr>
          <p:cNvPr id="116" name=""/>
          <p:cNvSpPr/>
          <p:nvPr/>
        </p:nvSpPr>
        <p:spPr>
          <a:xfrm>
            <a:off x="6477120" y="4038480"/>
            <a:ext cx="20574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review AutoFormat styles in the dialog box.</a:t>
            </a:r>
            <a:endParaRPr b="0" lang="en-US" sz="1800" spc="-1" strike="noStrike">
              <a:solidFill>
                <a:srgbClr val="003366"/>
              </a:solidFill>
              <a:latin typeface="Arial"/>
            </a:endParaRPr>
          </a:p>
        </p:txBody>
      </p:sp>
      <p:sp>
        <p:nvSpPr>
          <p:cNvPr id="117" name=""/>
          <p:cNvSpPr/>
          <p:nvPr/>
        </p:nvSpPr>
        <p:spPr>
          <a:xfrm flipH="1" flipV="1">
            <a:off x="4495680" y="3657600"/>
            <a:ext cx="198144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4800240" y="4495680"/>
            <a:ext cx="167652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CFFB254-CFC4-44FD-BFEA-8AB3A322B9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4T16:51:59Z</dcterms:modified>
  <cp:revision>39</cp:revision>
  <dc:subject/>
  <dc:title>kjjhghgff</dc:title>
</cp:coreProperties>
</file>