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84DC3-719B-4F63-A0B4-17F63C832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D615-61A3-41CC-8BD4-644989A3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3E8EF-09CE-4141-A614-5C209E297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AEBD9-40ED-4AD4-9049-0AF39F1BC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D5980-6AA2-4B69-9CA8-8879D2927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20AAF-8277-4042-96CE-8B00BF3F0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27279-79A5-40BA-8471-EE798BA64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D319D-9021-446E-BE66-A60C5167E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EED3C-D8C2-42F1-BFDD-41E0441E3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18839-7015-4560-B60D-ADC36603A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8AE71-6A9B-4D0B-B85E-9E92DEB2E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3D27C-F28B-4ADC-9E2B-5EA87DB19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27E72-FB4D-4ED9-89BF-FC13EED80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EEED6-42BD-4FC9-A5F8-CAEBBA051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A0EB6-201B-429B-93EA-5F967DBD2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85CE3-8D3C-4D9C-8498-D0185712A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2D7F4-0992-4D7B-9FE8-8AC649E39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ED149-313C-4F4C-9690-82EC0F347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20F54-B2B4-4ABD-9618-7C7905A50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3960-8220-42CE-9C3F-93ABDBA1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3F5DD-85D2-4674-B02E-38E3C046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9889-23D9-40C2-800A-0C002BE2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8BEB-5BFE-4A57-B338-B41022BF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3F3F-E469-4E6F-B209-CC70E0C25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42F6-125E-4144-BE22-03E3D9D79F3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16B8-B09F-4D8D-8307-DF7BF3AE068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6 </a:t>
            </a:r>
            <a:r>
              <a:rPr b="1" lang="en-US" sz="2800" spc="-1" strike="noStrike">
                <a:solidFill>
                  <a:srgbClr val="003366"/>
                </a:solidFill>
                <a:latin typeface="Arial"/>
              </a:rPr>
              <a:t>— </a:t>
            </a:r>
            <a:r>
              <a:rPr b="1" lang="en-US" sz="3200" spc="-1" strike="noStrike">
                <a:solidFill>
                  <a:srgbClr val="003366"/>
                </a:solidFill>
                <a:latin typeface="Arial"/>
              </a:rPr>
              <a:t>Excel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160"/>
            <a:ext cx="518148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xcel Window</a:t>
            </a:r>
            <a:endParaRPr b="1" lang="en-US" sz="3600" spc="-1" strike="noStrike">
              <a:solidFill>
                <a:srgbClr val="006666"/>
              </a:solidFill>
              <a:latin typeface="Arial"/>
            </a:endParaRPr>
          </a:p>
        </p:txBody>
      </p:sp>
      <p:pic>
        <p:nvPicPr>
          <p:cNvPr id="115" name="" descr=""/>
          <p:cNvPicPr/>
          <p:nvPr/>
        </p:nvPicPr>
        <p:blipFill>
          <a:blip r:embed="rId1"/>
          <a:stretch/>
        </p:blipFill>
        <p:spPr>
          <a:xfrm>
            <a:off x="2666880" y="2724120"/>
            <a:ext cx="4191120" cy="3124080"/>
          </a:xfrm>
          <a:prstGeom prst="rect">
            <a:avLst/>
          </a:prstGeom>
          <a:ln w="0">
            <a:noFill/>
          </a:ln>
        </p:spPr>
      </p:pic>
      <p:sp>
        <p:nvSpPr>
          <p:cNvPr id="116" name=""/>
          <p:cNvSpPr/>
          <p:nvPr/>
        </p:nvSpPr>
        <p:spPr>
          <a:xfrm>
            <a:off x="918000" y="320040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a:t>
            </a:r>
            <a:endParaRPr b="0" lang="en-US" sz="1800" spc="-1" strike="noStrike">
              <a:solidFill>
                <a:srgbClr val="003366"/>
              </a:solidFill>
              <a:latin typeface="Arial"/>
            </a:endParaRPr>
          </a:p>
        </p:txBody>
      </p:sp>
      <p:sp>
        <p:nvSpPr>
          <p:cNvPr id="117"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8" name=""/>
          <p:cNvSpPr/>
          <p:nvPr/>
        </p:nvSpPr>
        <p:spPr>
          <a:xfrm>
            <a:off x="7238880" y="46483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tical scroll bar</a:t>
            </a:r>
            <a:endParaRPr b="0" lang="en-US" sz="1800" spc="-1" strike="noStrike">
              <a:solidFill>
                <a:srgbClr val="003366"/>
              </a:solidFill>
              <a:latin typeface="Arial"/>
            </a:endParaRPr>
          </a:p>
        </p:txBody>
      </p:sp>
      <p:sp>
        <p:nvSpPr>
          <p:cNvPr id="119" name=""/>
          <p:cNvSpPr/>
          <p:nvPr/>
        </p:nvSpPr>
        <p:spPr>
          <a:xfrm>
            <a:off x="917640" y="47242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w labels</a:t>
            </a:r>
            <a:endParaRPr b="0" lang="en-US" sz="1800" spc="-1" strike="noStrike">
              <a:solidFill>
                <a:srgbClr val="003366"/>
              </a:solidFill>
              <a:latin typeface="Arial"/>
            </a:endParaRPr>
          </a:p>
        </p:txBody>
      </p:sp>
      <p:sp>
        <p:nvSpPr>
          <p:cNvPr id="120" name=""/>
          <p:cNvSpPr/>
          <p:nvPr/>
        </p:nvSpPr>
        <p:spPr>
          <a:xfrm>
            <a:off x="2975760" y="60199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rizontal scroll bar</a:t>
            </a:r>
            <a:endParaRPr b="0" lang="en-US" sz="1800" spc="-1" strike="noStrike">
              <a:solidFill>
                <a:srgbClr val="003366"/>
              </a:solidFill>
              <a:latin typeface="Arial"/>
            </a:endParaRPr>
          </a:p>
        </p:txBody>
      </p:sp>
      <p:sp>
        <p:nvSpPr>
          <p:cNvPr id="121" name=""/>
          <p:cNvSpPr/>
          <p:nvPr/>
        </p:nvSpPr>
        <p:spPr>
          <a:xfrm>
            <a:off x="5715000" y="2286000"/>
            <a:ext cx="163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umn labels</a:t>
            </a:r>
            <a:endParaRPr b="0" lang="en-US" sz="1800" spc="-1" strike="noStrike">
              <a:solidFill>
                <a:srgbClr val="003366"/>
              </a:solidFill>
              <a:latin typeface="Arial"/>
            </a:endParaRPr>
          </a:p>
        </p:txBody>
      </p:sp>
      <p:sp>
        <p:nvSpPr>
          <p:cNvPr id="122" name=""/>
          <p:cNvSpPr/>
          <p:nvPr/>
        </p:nvSpPr>
        <p:spPr>
          <a:xfrm>
            <a:off x="7238880" y="30481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atting toolbar</a:t>
            </a:r>
            <a:endParaRPr b="0" lang="en-US" sz="1800" spc="-1" strike="noStrike">
              <a:solidFill>
                <a:srgbClr val="003366"/>
              </a:solidFill>
              <a:latin typeface="Arial"/>
            </a:endParaRPr>
          </a:p>
        </p:txBody>
      </p:sp>
      <p:sp>
        <p:nvSpPr>
          <p:cNvPr id="123"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24" name=""/>
          <p:cNvSpPr/>
          <p:nvPr/>
        </p:nvSpPr>
        <p:spPr>
          <a:xfrm>
            <a:off x="916200" y="54864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5" name=""/>
          <p:cNvSpPr/>
          <p:nvPr/>
        </p:nvSpPr>
        <p:spPr>
          <a:xfrm>
            <a:off x="4191120" y="22860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26" name=""/>
          <p:cNvSpPr/>
          <p:nvPr/>
        </p:nvSpPr>
        <p:spPr>
          <a:xfrm>
            <a:off x="914400" y="380988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toolbar</a:t>
            </a:r>
            <a:endParaRPr b="0" lang="en-US" sz="1800" spc="-1" strike="noStrike">
              <a:solidFill>
                <a:srgbClr val="003366"/>
              </a:solidFill>
              <a:latin typeface="Arial"/>
            </a:endParaRPr>
          </a:p>
        </p:txBody>
      </p:sp>
      <p:sp>
        <p:nvSpPr>
          <p:cNvPr id="127" name=""/>
          <p:cNvSpPr/>
          <p:nvPr/>
        </p:nvSpPr>
        <p:spPr>
          <a:xfrm>
            <a:off x="1828800" y="2666880"/>
            <a:ext cx="8380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28" name=""/>
          <p:cNvSpPr/>
          <p:nvPr/>
        </p:nvSpPr>
        <p:spPr>
          <a:xfrm>
            <a:off x="1981080" y="29718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V="1">
            <a:off x="2438280" y="3200040"/>
            <a:ext cx="228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V="1">
            <a:off x="2133720" y="4648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2133720" y="4952880"/>
            <a:ext cx="6094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057400" y="5715000"/>
            <a:ext cx="6094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33" name=""/>
          <p:cNvSpPr/>
          <p:nvPr/>
        </p:nvSpPr>
        <p:spPr>
          <a:xfrm flipV="1">
            <a:off x="5105520" y="5638680"/>
            <a:ext cx="68580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flipH="1" flipV="1">
            <a:off x="6477120" y="30481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flipH="1" flipV="1">
            <a:off x="6781680" y="4495680"/>
            <a:ext cx="5335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flipH="1">
            <a:off x="3657600" y="2514600"/>
            <a:ext cx="5335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flipH="1">
            <a:off x="4724280" y="2514600"/>
            <a:ext cx="10670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flipH="1">
            <a:off x="5409720" y="251460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flipV="1">
            <a:off x="1981080" y="3047760"/>
            <a:ext cx="152424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2E0952E-51B8-44CB-B7D7-4AC59A14B7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tive Cell</a:t>
            </a: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47246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in a cell to select it, and a dark border will appear around the cell—this is the </a:t>
            </a:r>
            <a:r>
              <a:rPr b="0" i="1"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selected, you can enter data into the active cell.</a:t>
            </a:r>
            <a:endParaRPr b="0" lang="en-US" sz="2800" spc="-1" strike="noStrike">
              <a:solidFill>
                <a:srgbClr val="003366"/>
              </a:solidFill>
              <a:latin typeface="Arial"/>
            </a:endParaRPr>
          </a:p>
        </p:txBody>
      </p:sp>
      <p:pic>
        <p:nvPicPr>
          <p:cNvPr id="142" name="" descr=""/>
          <p:cNvPicPr/>
          <p:nvPr/>
        </p:nvPicPr>
        <p:blipFill>
          <a:blip r:embed="rId1"/>
          <a:stretch/>
        </p:blipFill>
        <p:spPr>
          <a:xfrm>
            <a:off x="5791320" y="2514600"/>
            <a:ext cx="2668320" cy="1674720"/>
          </a:xfrm>
          <a:prstGeom prst="rect">
            <a:avLst/>
          </a:prstGeom>
          <a:ln w="0">
            <a:noFill/>
          </a:ln>
        </p:spPr>
      </p:pic>
      <p:sp>
        <p:nvSpPr>
          <p:cNvPr id="143" name=""/>
          <p:cNvSpPr/>
          <p:nvPr/>
        </p:nvSpPr>
        <p:spPr>
          <a:xfrm>
            <a:off x="5791320" y="4572000"/>
            <a:ext cx="26668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tive cell in a worksheet appears with a dark border around it.</a:t>
            </a:r>
            <a:endParaRPr b="0" lang="en-US" sz="1800" spc="-1" strike="noStrike">
              <a:solidFill>
                <a:srgbClr val="003366"/>
              </a:solidFill>
              <a:latin typeface="Arial"/>
            </a:endParaRPr>
          </a:p>
        </p:txBody>
      </p:sp>
      <p:sp>
        <p:nvSpPr>
          <p:cNvPr id="144" name=""/>
          <p:cNvSpPr/>
          <p:nvPr/>
        </p:nvSpPr>
        <p:spPr>
          <a:xfrm flipH="1" flipV="1">
            <a:off x="6400800" y="3428640"/>
            <a:ext cx="457200" cy="1143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FF53173-A7AA-43AA-A540-8A991AFF2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begin entering data, simply key the information in the active cell.</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press Enter or click the Enter button (the green check mark) on the Formula Ba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 press Tab to enter the information and then move to the cell to the right of the active cell.</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enter data into the Formula b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that is too long for a cell, it may spill over into the next cell or display ##### in the cell.</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FB371FA-BFD1-44A8-81F7-A350D624DC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round in the Worksheet</a:t>
            </a:r>
            <a:endParaRPr b="1" lang="en-US" sz="3600" spc="-1" strike="noStrike">
              <a:solidFill>
                <a:srgbClr val="006666"/>
              </a:solidFill>
              <a:latin typeface="Arial"/>
            </a:endParaRPr>
          </a:p>
        </p:txBody>
      </p:sp>
      <p:pic>
        <p:nvPicPr>
          <p:cNvPr id="148" name="" descr=""/>
          <p:cNvPicPr/>
          <p:nvPr/>
        </p:nvPicPr>
        <p:blipFill>
          <a:blip r:embed="rId1"/>
          <a:stretch/>
        </p:blipFill>
        <p:spPr>
          <a:xfrm>
            <a:off x="1488960" y="2513160"/>
            <a:ext cx="6131160" cy="357336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AA5DCD6-E438-4727-87C4-99A141F0C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ll Ranges in Worksheet</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group of cells in a worksheet, the group is called a </a:t>
            </a:r>
            <a:r>
              <a:rPr b="0" i="1" lang="en-US" sz="2800" spc="-1" strike="noStrike">
                <a:solidFill>
                  <a:srgbClr val="003366"/>
                </a:solidFill>
                <a:latin typeface="Arial"/>
              </a:rPr>
              <a:t>rang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ells in a range touch each other and form a rectang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ge is identified by the cell in the upper-left corner and the cell in the lower-right corner, separated by a colon, such as A1:D4.</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862F0BA-0A8B-42AC-9EF7-82F0AD831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Range of Cells</a:t>
            </a:r>
            <a:endParaRPr b="1" lang="en-US" sz="3600" spc="-1" strike="noStrike">
              <a:solidFill>
                <a:srgbClr val="006666"/>
              </a:solidFill>
              <a:latin typeface="Arial"/>
            </a:endParaRPr>
          </a:p>
        </p:txBody>
      </p:sp>
      <p:sp>
        <p:nvSpPr>
          <p:cNvPr id="15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row in a worksheet, click the row number at the left of the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column, click the column letter at the top of the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select a row, column, or section of a worksheet by clicking and dragging the mouse to highlight the area you want to sele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elected range has a dark border, and all the cells in the row, column, or block are shaded except the first cell (the upper-right cell in a block).</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DF6B97A-3879-4F8C-B80A-39EA28E75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rrect and AutoComplete</a:t>
            </a:r>
            <a:endParaRPr b="1" lang="en-US" sz="3600" spc="-1" strike="noStrike">
              <a:solidFill>
                <a:srgbClr val="006666"/>
              </a:solidFill>
              <a:latin typeface="Arial"/>
            </a:endParaRPr>
          </a:p>
        </p:txBody>
      </p:sp>
      <p:sp>
        <p:nvSpPr>
          <p:cNvPr id="15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rrect is a feature that automatically corrects commonly misspelled words as you key tex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 key “teh,” AutoCorrect will change the text to “th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 anticipates what you are typing and displays a suggested word.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mpares the first few characters you key with words in adjacent cells to see whether you are entering a series of similar words or dat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s Enter to accept the proposed word or keep keying data to ignore it.</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1D7ECD7-7AEB-4D13-9D7A-979499C16B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nd Deleting Rows  </a:t>
            </a:r>
            <a:br>
              <a:rPr sz="3600"/>
            </a:br>
            <a:r>
              <a:rPr b="1" lang="en-US" sz="3600" spc="-1" strike="noStrike">
                <a:solidFill>
                  <a:srgbClr val="006666"/>
                </a:solidFill>
                <a:latin typeface="Arial"/>
              </a:rPr>
              <a:t>and Columns</a:t>
            </a:r>
            <a:endParaRPr b="1" lang="en-US" sz="3600" spc="-1" strike="noStrike">
              <a:solidFill>
                <a:srgbClr val="006666"/>
              </a:solidFill>
              <a:latin typeface="Arial"/>
            </a:endParaRPr>
          </a:p>
        </p:txBody>
      </p:sp>
      <p:sp>
        <p:nvSpPr>
          <p:cNvPr id="156"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insert or delete cells in a work-sheet, all existing data is shifted in some direction.</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insert a row, all data below the new row is shifted down one row.</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automatically updates cell references.</a:t>
            </a:r>
            <a:endParaRPr b="0" lang="en-US" sz="24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insert and delete rows and columns, use the commands on the Insert menu.</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insert multiple rows at one time.</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96AD4F3-27EA-4838-96C6-83AC86A63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 and </a:t>
            </a:r>
            <a:br>
              <a:rPr sz="3600"/>
            </a:br>
            <a:r>
              <a:rPr b="1" lang="en-US" sz="3600" spc="-1" strike="noStrike">
                <a:solidFill>
                  <a:srgbClr val="006666"/>
                </a:solidFill>
                <a:latin typeface="Arial"/>
              </a:rPr>
              <a:t>Row Height</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enter data that is too wide for a cell:</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display as a series of # sign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be cut off so only part of it is visibl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run outside the column.</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widen the column by</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ging the column border sideway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the Column Width command.</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ikewise, you can change row height to meet the requirements of the data in a row.</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07EE348-C319-4303-91C7-CB729B180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Data in</a:t>
            </a:r>
            <a:br>
              <a:rPr sz="3600"/>
            </a:br>
            <a:r>
              <a:rPr b="1" lang="en-US" sz="3600" spc="-1" strike="noStrike">
                <a:solidFill>
                  <a:srgbClr val="006666"/>
                </a:solidFill>
                <a:latin typeface="Arial"/>
              </a:rPr>
              <a:t>Worksheet Cells</a:t>
            </a:r>
            <a:endParaRPr b="1" lang="en-US" sz="3600" spc="-1" strike="noStrike">
              <a:solidFill>
                <a:srgbClr val="006666"/>
              </a:solidFill>
              <a:latin typeface="Arial"/>
            </a:endParaRPr>
          </a:p>
        </p:txBody>
      </p:sp>
      <p:sp>
        <p:nvSpPr>
          <p:cNvPr id="16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entering data in a cell, Excel offers tools to reorganize it, delete it, move it, or copy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replace, or clear cell content in worksheet cell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move away from the cell and select it again, anything you type will replace the existing content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161" name="" descr=""/>
          <p:cNvPicPr/>
          <p:nvPr/>
        </p:nvPicPr>
        <p:blipFill>
          <a:blip r:embed="rId1"/>
          <a:stretch/>
        </p:blipFill>
        <p:spPr>
          <a:xfrm>
            <a:off x="6172200" y="5218200"/>
            <a:ext cx="2133720" cy="898560"/>
          </a:xfrm>
          <a:prstGeom prst="rect">
            <a:avLst/>
          </a:prstGeom>
          <a:ln w="0">
            <a:noFill/>
          </a:ln>
        </p:spPr>
      </p:pic>
      <p:sp>
        <p:nvSpPr>
          <p:cNvPr id="162" name=""/>
          <p:cNvSpPr/>
          <p:nvPr/>
        </p:nvSpPr>
        <p:spPr>
          <a:xfrm>
            <a:off x="1981080" y="5638680"/>
            <a:ext cx="3597480" cy="6145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n also make changes to cell contents in the Formula Bar.</a:t>
            </a:r>
            <a:endParaRPr b="0" lang="en-US" sz="1800" spc="-1" strike="noStrike">
              <a:solidFill>
                <a:srgbClr val="003366"/>
              </a:solidFill>
              <a:latin typeface="Arial"/>
            </a:endParaRPr>
          </a:p>
        </p:txBody>
      </p:sp>
      <p:sp>
        <p:nvSpPr>
          <p:cNvPr id="163" name=""/>
          <p:cNvSpPr/>
          <p:nvPr/>
        </p:nvSpPr>
        <p:spPr>
          <a:xfrm flipV="1">
            <a:off x="5562720" y="5410080"/>
            <a:ext cx="198108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C1F55D5-3582-4552-A256-D41B43646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Excel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nd navigate through a workshee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Correct and AutoComplete features in Exc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and delete rows and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column width and row height, including using AutoFit to fit the column width to the cell conten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6CC1B76-0B48-4AF9-8D98-8CBF131AF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earing the Contents or the Formatting from a Cell</a:t>
            </a:r>
            <a:endParaRPr b="1" lang="en-US" sz="3600" spc="-1" strike="noStrike">
              <a:solidFill>
                <a:srgbClr val="006666"/>
              </a:solidFill>
              <a:latin typeface="Arial"/>
            </a:endParaRPr>
          </a:p>
        </p:txBody>
      </p:sp>
      <p:sp>
        <p:nvSpPr>
          <p:cNvPr id="165" name="PlaceHolder 1"/>
          <p:cNvSpPr>
            <a:spLocks noGrp="1"/>
          </p:cNvSpPr>
          <p:nvPr>
            <p:ph/>
          </p:nvPr>
        </p:nvSpPr>
        <p:spPr>
          <a:xfrm>
            <a:off x="838080" y="2362320"/>
            <a:ext cx="784872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elete cell contents and leave the formatting intact, select the cell and press the Backspace or Delete key.</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clears the contents of the cell, but not the format. If you enter new data, it is formatted the same way as the old data.</a:t>
            </a:r>
            <a:endParaRPr b="0" lang="en-US" sz="22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remove the format from a cell and leave the contents, select the cell, open the Edit menu, point to Clear, and select Format.</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removes the format, but leaves the data intac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1E20D2-3B1E-41DA-9C80-4E8657C89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 Cell</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use the Delete command on the Edit menu, you remove the cell entire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lete command opens a dialog box with four op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to the lef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up.</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row.</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colu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ution when using the Delete command. The results may misalign data in your rows and colum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3BE3533-AB1C-430E-8B8F-21AC0B72B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pying and Moving Data</a:t>
            </a:r>
            <a:endParaRPr b="1" lang="en-US" sz="3600" spc="-1" strike="noStrike">
              <a:solidFill>
                <a:srgbClr val="006666"/>
              </a:solidFill>
              <a:latin typeface="Arial"/>
            </a:endParaRPr>
          </a:p>
        </p:txBody>
      </p:sp>
      <p:sp>
        <p:nvSpPr>
          <p:cNvPr id="16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copy data from one or more cells to other cell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to be copi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opy button on the Standard tool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e pointer in the new cel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s the Paste button on the tool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move data:</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 the same steps, but use the Cut button on the Standard toolbar instead of the Copy butt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DFCA34A-8F20-41DA-9CEC-AFA403E4EC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315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lso copy data using AutoFill.</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can only be used when the destination cells are adjacent to the source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up or down in the same colum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left or right in the same ro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ll adjacent cells:</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the source cell. A small black </a:t>
            </a:r>
            <a:r>
              <a:rPr b="0" i="1" lang="en-US" sz="2200" spc="-1" strike="noStrike">
                <a:solidFill>
                  <a:srgbClr val="003366"/>
                </a:solidFill>
                <a:latin typeface="Arial"/>
              </a:rPr>
              <a:t>fill handle</a:t>
            </a:r>
            <a:r>
              <a:rPr b="0" lang="en-US" sz="2200" spc="-1" strike="noStrike">
                <a:solidFill>
                  <a:srgbClr val="003366"/>
                </a:solidFill>
                <a:latin typeface="Arial"/>
              </a:rPr>
              <a:t>    appears in the lower-right corn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rag the fill handle in the desired direction.</a:t>
            </a:r>
            <a:endParaRPr b="0" lang="en-US" sz="2200" spc="-1" strike="noStrike">
              <a:solidFill>
                <a:srgbClr val="003366"/>
              </a:solidFill>
              <a:latin typeface="Arial"/>
            </a:endParaRPr>
          </a:p>
        </p:txBody>
      </p:sp>
      <p:pic>
        <p:nvPicPr>
          <p:cNvPr id="172" name="" descr=""/>
          <p:cNvPicPr/>
          <p:nvPr/>
        </p:nvPicPr>
        <p:blipFill>
          <a:blip r:embed="rId1"/>
          <a:stretch/>
        </p:blipFill>
        <p:spPr>
          <a:xfrm>
            <a:off x="7391520" y="4343400"/>
            <a:ext cx="1068120" cy="689040"/>
          </a:xfrm>
          <a:prstGeom prst="rect">
            <a:avLst/>
          </a:prstGeom>
          <a:ln w="0">
            <a:noFill/>
          </a:ln>
        </p:spPr>
      </p:pic>
      <p:sp>
        <p:nvSpPr>
          <p:cNvPr id="173" name=""/>
          <p:cNvSpPr/>
          <p:nvPr/>
        </p:nvSpPr>
        <p:spPr>
          <a:xfrm>
            <a:off x="7242480" y="548640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ll handle</a:t>
            </a:r>
            <a:endParaRPr b="0" lang="en-US" sz="1800" spc="-1" strike="noStrike">
              <a:solidFill>
                <a:srgbClr val="003366"/>
              </a:solidFill>
              <a:latin typeface="Arial"/>
            </a:endParaRPr>
          </a:p>
        </p:txBody>
      </p:sp>
      <p:sp>
        <p:nvSpPr>
          <p:cNvPr id="174" name=""/>
          <p:cNvSpPr/>
          <p:nvPr/>
        </p:nvSpPr>
        <p:spPr>
          <a:xfrm flipV="1">
            <a:off x="7772400" y="49528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BD37934-754E-48A9-A272-65812DD49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the Contents of a Cell</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the contents of a cell changes the way the data appears.</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change data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add commas to large numbers.</a:t>
            </a:r>
            <a:endParaRPr b="0" lang="en-US" sz="25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formatting features in Excel include</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nging font, font attributes, and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atting numbers and dates</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ing Format Painter to format multiple cells</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EC7C943-4D4C-48AE-8A14-75D8DA3B4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onts and Aligning Tex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modify text, first select the cell or a group of cell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nce selected, use the Formatting toolbar to</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he typeface of existing text by selecting a new fo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bold, italic, or underline attributes to selected cel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ext alignment using the alignment butt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0437579-80C5-4998-ABA0-B0278FF1CB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hading and Borders</a:t>
            </a:r>
            <a:endParaRPr b="1" lang="en-US" sz="3600" spc="-1" strike="noStrike">
              <a:solidFill>
                <a:srgbClr val="006666"/>
              </a:solidFill>
              <a:latin typeface="Arial"/>
            </a:endParaRPr>
          </a:p>
        </p:txBody>
      </p:sp>
      <p:sp>
        <p:nvSpPr>
          <p:cNvPr id="180"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highlight a cell, a row of cells, or a column with color, shading, or borders.</a:t>
            </a:r>
            <a:endParaRPr b="0" lang="en-US" sz="25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the cells you want to format and then open the Format Cells dialog box by selecting Cells from the Format menu.</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ormat Cells dialog box has six tabs including Number, Alignment, Font, Border, Patterns, and Protection.</a:t>
            </a:r>
            <a:endParaRPr b="0" lang="en-US" sz="23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Patterns tab to add a fill color or shading pattern.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Border tab to outline a cell or range of cells.</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5D2F497-A67B-4828-B538-984C727024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Numbers and Dates</a:t>
            </a:r>
            <a:endParaRPr b="1" lang="en-US" sz="3600" spc="-1" strike="noStrike">
              <a:solidFill>
                <a:srgbClr val="006666"/>
              </a:solidFill>
              <a:latin typeface="Arial"/>
            </a:endParaRPr>
          </a:p>
        </p:txBody>
      </p:sp>
      <p:sp>
        <p:nvSpPr>
          <p:cNvPr id="182" name="PlaceHolder 1"/>
          <p:cNvSpPr>
            <a:spLocks noGrp="1"/>
          </p:cNvSpPr>
          <p:nvPr>
            <p:ph/>
          </p:nvPr>
        </p:nvSpPr>
        <p:spPr>
          <a:xfrm>
            <a:off x="837720" y="2361960"/>
            <a:ext cx="3962520" cy="3886200"/>
          </a:xfrm>
          <a:prstGeom prst="rect">
            <a:avLst/>
          </a:prstGeom>
          <a:noFill/>
          <a:ln w="0">
            <a:noFill/>
          </a:ln>
        </p:spPr>
        <p:txBody>
          <a:bodyPr lIns="90000" rIns="90000" tIns="46800" bIns="46800" anchor="t">
            <a:normAutofit fontScale="97000"/>
          </a:bodyPr>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also can use the Format Cells dialog box to format numeric and data fields.</a:t>
            </a:r>
            <a:endParaRPr b="0" lang="en-US" sz="2500" spc="-1" strike="noStrike">
              <a:solidFill>
                <a:srgbClr val="003366"/>
              </a:solidFill>
              <a:latin typeface="Arial"/>
            </a:endParaRPr>
          </a:p>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re are several predefined categories you can choose from, and the options you can set vary for each category.</a:t>
            </a:r>
            <a:endParaRPr b="0" lang="en-US" sz="2500" spc="-1" strike="noStrike">
              <a:solidFill>
                <a:srgbClr val="003366"/>
              </a:solidFill>
              <a:latin typeface="Arial"/>
            </a:endParaRPr>
          </a:p>
        </p:txBody>
      </p:sp>
      <p:pic>
        <p:nvPicPr>
          <p:cNvPr id="183" name="" descr=""/>
          <p:cNvPicPr/>
          <p:nvPr/>
        </p:nvPicPr>
        <p:blipFill>
          <a:blip r:embed="rId1"/>
          <a:stretch/>
        </p:blipFill>
        <p:spPr>
          <a:xfrm>
            <a:off x="4952880" y="2590920"/>
            <a:ext cx="3164040" cy="305424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1A203EB-FAC3-46A5-A6D6-B8B7931539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 Painter</a:t>
            </a:r>
            <a:endParaRPr b="1" lang="en-US" sz="3600" spc="-1" strike="noStrike">
              <a:solidFill>
                <a:srgbClr val="006666"/>
              </a:solidFill>
              <a:latin typeface="Arial"/>
            </a:endParaRPr>
          </a:p>
        </p:txBody>
      </p:sp>
      <p:sp>
        <p:nvSpPr>
          <p:cNvPr id="185" name="PlaceHolder 1"/>
          <p:cNvSpPr>
            <a:spLocks noGrp="1"/>
          </p:cNvSpPr>
          <p:nvPr>
            <p:ph/>
          </p:nvPr>
        </p:nvSpPr>
        <p:spPr>
          <a:xfrm>
            <a:off x="838080" y="2362320"/>
            <a:ext cx="784872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have formatted selected cells, you can copy the same format to other cells using the Format Pain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Format Painter in Exce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cell that has the format you want to app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Format Painter butt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ll cells that you want to format the same as the selected ce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83C597D-021C-4282-A3A1-79B825356A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Undo Feature</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editing a worksheet, you may change something you did not mean to chan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Undo command on the Edit menu (or click the Undo button on the Standard toolbar) to reverse an 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ndo more than one recent action, click the list arrow on the Undo button to see a list of actions.</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click on an action in the Undo list, that action and all actions above it will be undone.</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AEFBDFB-F7F3-447E-9026-BF7010B0A4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y, clear, move, and delet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utoFill to copy the same data in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he contents of a cell and add shading and border formats 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Undo and Redo featur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A0C628B-12C3-40DC-AF77-92D552F3F9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do Feature</a:t>
            </a:r>
            <a:endParaRPr b="1" lang="en-US" sz="3600" spc="-1" strike="noStrike">
              <a:solidFill>
                <a:srgbClr val="006666"/>
              </a:solidFill>
              <a:latin typeface="Arial"/>
            </a:endParaRPr>
          </a:p>
        </p:txBody>
      </p:sp>
      <p:sp>
        <p:nvSpPr>
          <p:cNvPr id="18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Redo command on the Edit menu to reverse the result of an Undo comm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click the Redo button on the Standard toolbar to reverse your last Undo command.</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also see the Redo action list of actions to redo by clicking the list arrow on the Redo butt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click on an action in the Redo list, that action and all actions above it will be reinstated in the worksheet.</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1F23F0C-BAD2-465B-864F-FB37EB2536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xcel screen has its own unique screen parts, menus, and toolb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enter data in a cell, the cell must be selected. You can use the mouse or the keyboard to move from one cell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E5A0B51-56CF-4823-8505-2798B0AE2A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enter data, Excel will automatically correct some of your keyboarding errors. If the data you are entering matches characters of existing entries, Excel will propose the existing entry to save you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insert or delete rows and columns, all existing data is shifted up, down, left, or righ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EC9F3BA-9170-434D-ACB7-F88448F4616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5" name="PlaceHolder 2"/>
          <p:cNvSpPr>
            <a:spLocks noGrp="1"/>
          </p:cNvSpPr>
          <p:nvPr>
            <p:ph/>
          </p:nvPr>
        </p:nvSpPr>
        <p:spPr>
          <a:xfrm>
            <a:off x="837720" y="2362320"/>
            <a:ext cx="762012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several options for changing the column width. You can drag a column border, use the AutoFit feature, or specify an exact measure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organize a worksheet, you can delete, clear, copy, or move the data.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C9237A7-6DAE-4D70-8F5D-05DE176C540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utoFill command enables you to copy data from one cell to another or enter certain series of data, such as months or days of the week. </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ormat the contents of a cell, you change the appearance of the text or numbers in the cell.</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Undo command reverses a previous action. The Redo command reverses an undo.</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44EFF9-B549-4033-B259-EE8301E44C6D}"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ll refer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 hand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b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eet</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C66EE157-76E6-4C51-AE35-09FF7776CC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crosoft Excel</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is an electronic spreadsheet appli-cation designed to replace the tedious work of using pencils, paper, and calcul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preadsheet</a:t>
            </a:r>
            <a:r>
              <a:rPr b="0" lang="en-US" sz="2800" spc="-1" strike="noStrike">
                <a:solidFill>
                  <a:srgbClr val="003366"/>
                </a:solidFill>
                <a:latin typeface="Arial"/>
              </a:rPr>
              <a:t> is used to gather, organize, and summarize text and numeric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eadsheets are called </a:t>
            </a:r>
            <a:r>
              <a:rPr b="0" i="1" lang="en-US" sz="2800" spc="-1" strike="noStrike">
                <a:solidFill>
                  <a:srgbClr val="003366"/>
                </a:solidFill>
                <a:latin typeface="Arial"/>
              </a:rPr>
              <a:t>worksheets</a:t>
            </a:r>
            <a:r>
              <a:rPr b="0" lang="en-US" sz="2800" spc="-1" strike="noStrike">
                <a:solidFill>
                  <a:srgbClr val="003366"/>
                </a:solidFill>
                <a:latin typeface="Arial"/>
              </a:rPr>
              <a:t> in Excel.</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0700B0D-E4DA-47A1-AF18-53C222B26F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a Workshee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315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a grid of rows and columns into which you can enter numbers, text, and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ksheet in Excel is also used to perform calcul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stored in a workbook that contains one or more workshee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4CB928F-2CE3-4D8C-ADFA-CF7AFFE802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an Excel Worksheet</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irst launch the Excel application, a blank worksheet</a:t>
            </a:r>
            <a:r>
              <a:rPr b="1" i="1" lang="en-US" sz="2700" spc="-1" strike="noStrike">
                <a:solidFill>
                  <a:srgbClr val="003366"/>
                </a:solidFill>
                <a:latin typeface="Arial"/>
              </a:rPr>
              <a:t> </a:t>
            </a:r>
            <a:r>
              <a:rPr b="0" lang="en-US" sz="2700" spc="-1" strike="noStrike">
                <a:solidFill>
                  <a:srgbClr val="003366"/>
                </a:solidFill>
                <a:latin typeface="Arial"/>
              </a:rPr>
              <a:t>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worksheet is titled </a:t>
            </a:r>
            <a:r>
              <a:rPr b="0" i="1" lang="en-US" sz="2700" spc="-1" strike="noStrike">
                <a:solidFill>
                  <a:srgbClr val="003366"/>
                </a:solidFill>
                <a:latin typeface="Arial"/>
              </a:rPr>
              <a:t>Book1</a:t>
            </a:r>
            <a:r>
              <a:rPr b="0" lang="en-US" sz="2700" spc="-1" strike="noStrike">
                <a:solidFill>
                  <a:srgbClr val="003366"/>
                </a:solidFill>
                <a:latin typeface="Arial"/>
              </a:rPr>
              <a:t>.</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is filename will remain until you choose Save As from the File menu and assign the document a new filename.</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Document task pane is displayed on the right side of the window when you open the applic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DBC9F3C-311B-4967-BF04-16DABF65A0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ructure of a Worksheet</a:t>
            </a:r>
            <a:endParaRPr b="1" lang="en-US" sz="3600" spc="-1" strike="noStrike">
              <a:solidFill>
                <a:srgbClr val="006666"/>
              </a:solidFill>
              <a:latin typeface="Arial"/>
            </a:endParaRPr>
          </a:p>
        </p:txBody>
      </p:sp>
      <p:sp>
        <p:nvSpPr>
          <p:cNvPr id="111"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lumns in a worksheet appear vertically and are identified by letters at the top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ows appear horizontally and are identified by numbers on the left side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ually, the top row of a worksheet is used for explanatory text or column headings that identify the type of data in each colum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tersection of a single row and a single column is called a </a:t>
            </a:r>
            <a:r>
              <a:rPr b="0" i="1" lang="en-US" sz="2500" spc="-1" strike="noStrike">
                <a:solidFill>
                  <a:srgbClr val="003366"/>
                </a:solidFill>
                <a:latin typeface="Arial"/>
              </a:rPr>
              <a:t>cell</a:t>
            </a:r>
            <a:r>
              <a:rPr b="0" lang="en-US" sz="2500" spc="-1" strike="noStrike">
                <a:solidFill>
                  <a:srgbClr val="003366"/>
                </a:solidFill>
                <a:latin typeface="Arial"/>
              </a:rPr>
              <a: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28AB0C0-D0F3-4DEB-9E8A-B4052F156E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ing the Parts of the </a:t>
            </a:r>
            <a:br>
              <a:rPr sz="3600"/>
            </a:br>
            <a:r>
              <a:rPr b="1" lang="en-US" sz="3600" spc="-1" strike="noStrike">
                <a:solidFill>
                  <a:srgbClr val="006666"/>
                </a:solidFill>
                <a:latin typeface="Arial"/>
              </a:rPr>
              <a:t>Excel Window</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t>
            </a:r>
            <a:r>
              <a:rPr b="0" i="1" lang="en-US" sz="2600" spc="-1" strike="noStrike">
                <a:solidFill>
                  <a:srgbClr val="003366"/>
                </a:solidFill>
                <a:latin typeface="Arial"/>
              </a:rPr>
              <a:t>cell reference</a:t>
            </a:r>
            <a:r>
              <a:rPr b="0" lang="en-US" sz="2600" spc="-1" strike="noStrike">
                <a:solidFill>
                  <a:srgbClr val="003366"/>
                </a:solidFill>
                <a:latin typeface="Arial"/>
              </a:rPr>
              <a:t> identifies the column letter and row number (for example, A1 or B4).</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xcel window has many features that are similar to other Office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le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u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us ba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A7751CB-9EAE-49FD-8E15-EB334EB1F3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3:07:35Z</dcterms:modified>
  <cp:revision>39</cp:revision>
  <dc:subject/>
  <dc:title>kjjhghgff</dc:title>
</cp:coreProperties>
</file>