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5E6F9-7A78-40A9-9FE6-8CCDF3C41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957CD-28ED-45D2-878C-9130891EE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2CCC9-CEE2-4617-9A0E-07782AEA9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FA4D4-6010-4ACC-A970-C52B1D85D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0EC4A-543E-4D61-ABBC-946E71097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B828D-C402-4BE6-B657-D1EA5E3E4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BD451-C340-475B-A688-6C267E4D7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AB2D9-BB82-4566-93B0-389C524DD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50A31-E7BB-408F-A13E-84BB383B7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BCC5F-E9A6-44B4-A7AC-F19A84DFD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6AD23-F003-4D11-A4B2-A3051ADBA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ED4F1-35AF-4B73-9D33-7938D8A09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3E068-7D51-4070-BB8A-7E6A56006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9C6BE-9D0B-464C-9A5E-E987E802C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21D53-0EE5-4283-A4BD-A0B3F8E95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D71A9-046C-462A-9A42-2462E38B4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A0D71-A9B4-4FD4-9FE7-5549DA830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9A54-396E-4427-A881-4859FA361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53D21-E498-4292-AC52-399421F7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E2C1-3E2A-4A5C-A070-2F3AFBDDE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50E46-D701-4710-9EFF-6967532D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7545-7E32-414D-81C2-8C7BB3482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27A2-BD2F-4C69-9F12-A4F94FD9E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7FC2-A1F1-43A3-BF99-DC575C2A7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0CC6-86B3-47B3-B7E5-C07095F5966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6624-99CA-47BB-BA8F-125D77636AE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5 </a:t>
            </a:r>
            <a:r>
              <a:rPr b="1" lang="en-US" sz="2800" spc="-1" strike="noStrike">
                <a:solidFill>
                  <a:srgbClr val="003366"/>
                </a:solidFill>
                <a:latin typeface="Arial"/>
              </a:rPr>
              <a:t>– </a:t>
            </a:r>
            <a:r>
              <a:rPr b="1" lang="en-US" sz="3200" spc="-1" strike="noStrike">
                <a:solidFill>
                  <a:srgbClr val="003366"/>
                </a:solidFill>
                <a:latin typeface="Arial"/>
              </a:rPr>
              <a:t>Enhancing Document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rders and Shading</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borders and shading to your docu-ment to enhance its appearance, select Borders and Shading from the Format menu.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display the Borders and Shading toolbar to quickly access formatting features.</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sition the insertion point where the effect should begin and then select the border or shading option you want on the toolbar or in the dialog box.</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2E4B242-38CA-4D81-A7C2-FA59C7ECD2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ge Numbers</a:t>
            </a:r>
            <a:endParaRPr b="1" lang="en-US" sz="3600" spc="-1" strike="noStrike">
              <a:solidFill>
                <a:srgbClr val="006666"/>
              </a:solidFill>
              <a:latin typeface="Arial"/>
            </a:endParaRPr>
          </a:p>
        </p:txBody>
      </p:sp>
      <p:sp>
        <p:nvSpPr>
          <p:cNvPr id="121"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r document has multiple pages, you may want to insert page numb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age Numbers command on the Insert menu quickly adds page numbers to a document.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ommand actually creates a </a:t>
            </a:r>
            <a:r>
              <a:rPr b="0" i="1" lang="en-US" sz="2600" spc="-1" strike="noStrike">
                <a:solidFill>
                  <a:srgbClr val="003366"/>
                </a:solidFill>
                <a:latin typeface="Arial"/>
              </a:rPr>
              <a:t>header</a:t>
            </a:r>
            <a:r>
              <a:rPr b="0" lang="en-US" sz="2600" spc="-1" strike="noStrike">
                <a:solidFill>
                  <a:srgbClr val="003366"/>
                </a:solidFill>
                <a:latin typeface="Arial"/>
              </a:rPr>
              <a:t> or </a:t>
            </a:r>
            <a:r>
              <a:rPr b="0" i="1" lang="en-US" sz="2600" spc="-1" strike="noStrike">
                <a:solidFill>
                  <a:srgbClr val="003366"/>
                </a:solidFill>
                <a:latin typeface="Arial"/>
              </a:rPr>
              <a:t>footer</a:t>
            </a:r>
            <a:r>
              <a:rPr b="0" lang="en-US" sz="2600" spc="-1" strike="noStrike">
                <a:solidFill>
                  <a:srgbClr val="003366"/>
                </a:solidFill>
                <a:latin typeface="Arial"/>
              </a:rPr>
              <a:t> with a page number as the only tex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09433BE-109E-43B3-87C2-D84D5D8919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ders and Footers</a:t>
            </a:r>
            <a:endParaRPr b="1" lang="en-US" sz="3600" spc="-1" strike="noStrike">
              <a:solidFill>
                <a:srgbClr val="006666"/>
              </a:solidFill>
              <a:latin typeface="Arial"/>
            </a:endParaRPr>
          </a:p>
        </p:txBody>
      </p:sp>
      <p:sp>
        <p:nvSpPr>
          <p:cNvPr id="123"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Headers and footers are information that prints in the top and bottom margins of each page of a docume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document can have a header, a footer, or both.</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reating a header or footer is another way to add page numbers to a documen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ing headers or footers instead of the Page Numbers command on the Insert menu allows you to include text with the page number. </a:t>
            </a:r>
            <a:endParaRPr b="0" lang="en-US" sz="2300" spc="-1" strike="noStrike">
              <a:solidFill>
                <a:srgbClr val="003366"/>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7C1D79D-A0E0-4465-8079-3CCE66368E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eader and Footer Pane</a:t>
            </a:r>
            <a:endParaRPr b="1" lang="en-US" sz="3600" spc="-1" strike="noStrike">
              <a:solidFill>
                <a:srgbClr val="006666"/>
              </a:solidFill>
              <a:latin typeface="Arial"/>
            </a:endParaRPr>
          </a:p>
        </p:txBody>
      </p:sp>
      <p:pic>
        <p:nvPicPr>
          <p:cNvPr id="125" name="" descr=""/>
          <p:cNvPicPr/>
          <p:nvPr/>
        </p:nvPicPr>
        <p:blipFill>
          <a:blip r:embed="rId1"/>
          <a:stretch/>
        </p:blipFill>
        <p:spPr>
          <a:xfrm>
            <a:off x="1447920" y="2666880"/>
            <a:ext cx="6324480" cy="2170080"/>
          </a:xfrm>
          <a:prstGeom prst="rect">
            <a:avLst/>
          </a:prstGeom>
          <a:ln w="0">
            <a:noFill/>
          </a:ln>
        </p:spPr>
      </p:pic>
      <p:sp>
        <p:nvSpPr>
          <p:cNvPr id="126" name=""/>
          <p:cNvSpPr/>
          <p:nvPr/>
        </p:nvSpPr>
        <p:spPr>
          <a:xfrm>
            <a:off x="1066680" y="2438280"/>
            <a:ext cx="7086600" cy="25909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1066680" y="5181480"/>
            <a:ext cx="70866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Header and Footer command on the View menu in Word to open the Header and Footer pane and display the toolbar (shown at the top of the figure) that you use to insert and edit these featur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6AB348A-7267-4213-AA76-9E2D215402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otnotes and Endnotes</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es are added to a document to show the source of borrowed material or provide extra or explanatory information about the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otnotes</a:t>
            </a:r>
            <a:r>
              <a:rPr b="0" lang="en-US" sz="2800" spc="-1" strike="noStrike">
                <a:solidFill>
                  <a:srgbClr val="003366"/>
                </a:solidFill>
                <a:latin typeface="Arial"/>
              </a:rPr>
              <a:t> are inserted at the bottom of the page on which the note is referenced in the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dnotes</a:t>
            </a:r>
            <a:r>
              <a:rPr b="0" lang="en-US" sz="2800" spc="-1" strike="noStrike">
                <a:solidFill>
                  <a:srgbClr val="003366"/>
                </a:solidFill>
                <a:latin typeface="Arial"/>
              </a:rPr>
              <a:t> are placed together at the end of a documen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188FB51-1C63-4D56-AF45-0A6A188B85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otnotes and Endnotes (cont.)</a:t>
            </a:r>
            <a:endParaRPr b="1" lang="en-US" sz="3600" spc="-1" strike="noStrike">
              <a:solidFill>
                <a:srgbClr val="006666"/>
              </a:solidFill>
              <a:latin typeface="Arial"/>
            </a:endParaRPr>
          </a:p>
        </p:txBody>
      </p:sp>
      <p:sp>
        <p:nvSpPr>
          <p:cNvPr id="1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otnotes and endnotes are linked to their in-text reference symbol, which is usually a superscript letter or number.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format your document with footnotes and then decide to change the notes to endnotes, Word provides a conversion feature to change all footnotes to endnotes or vice vers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Notes are also automatically renumbered if you add or delete a note in the tex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2666E8D-C324-4B43-AAAA-6563E8F1F1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Clip Art</a:t>
            </a:r>
            <a:endParaRPr b="1" lang="en-US" sz="36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fice 2003 comes with a selection of clip art that can be inserted into a Word document.</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insert clip art, first position the insertion point where you want the clip art to go.</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point to Picture, and then select Clip Art to open the Clip Art task pan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AB3961C-D73E-4B09-9346-6B21717FF3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lip Art Task Pan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5720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nter your search word in the Search for text box.</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ecify where you want to search for clip art and what type of files you want to find in the drop-down list boxes, and then click Go.</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the thumbnail images appear, click one to insert it into your document.</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36" name="" descr=""/>
          <p:cNvPicPr/>
          <p:nvPr/>
        </p:nvPicPr>
        <p:blipFill>
          <a:blip r:embed="rId1"/>
          <a:stretch/>
        </p:blipFill>
        <p:spPr>
          <a:xfrm>
            <a:off x="5824440" y="2362320"/>
            <a:ext cx="1643040" cy="3724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8E9995E-6C38-47FA-A0BC-9FC22378CF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erting a Picture from a File</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clip art, you can insert graphics from folder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sition the insertion poi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point to Picture, and select From Fil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ocate the folder and file in the dialog box to insert it into the doc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986B4A1-A422-4D25-AC90-D60D96903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Graphics</a:t>
            </a:r>
            <a:endParaRPr b="1" lang="en-US" sz="3600" spc="-1" strike="noStrike">
              <a:solidFill>
                <a:srgbClr val="006666"/>
              </a:solidFill>
              <a:latin typeface="Arial"/>
            </a:endParaRPr>
          </a:p>
        </p:txBody>
      </p:sp>
      <p:sp>
        <p:nvSpPr>
          <p:cNvPr id="140"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Graphics can be manipulated after inserting them into your document.</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click on a graphic image to select it, you will see sizing handles around the graphic that allow you to cut, copy, paste, delete, resize, and move the graphic.</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Picture toolbar also displays on the screen when you select a graphic, providing various tools to work with images.</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A65C7F2-CEF7-4AEF-A4EB-DBB0BD9C54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text in columns.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borders and shading.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page numbers and create a header and footer.</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modify, and format endnotes and footnot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AB338FD-1A4B-42D6-A216-5DBC38EF9E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izing Graphics</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5029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resize a graphic by selecting it and then dragging the sizing hand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corner sizing handle to enlarge or reduce the graphic proportional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the graphic and then use the Format Picture command on the shortcut menu to specify an exact size.</a:t>
            </a:r>
            <a:endParaRPr b="0" lang="en-US" sz="2400" spc="-1" strike="noStrike">
              <a:solidFill>
                <a:srgbClr val="003366"/>
              </a:solidFill>
              <a:latin typeface="Arial"/>
            </a:endParaRPr>
          </a:p>
        </p:txBody>
      </p:sp>
      <p:pic>
        <p:nvPicPr>
          <p:cNvPr id="143" name="" descr=""/>
          <p:cNvPicPr/>
          <p:nvPr/>
        </p:nvPicPr>
        <p:blipFill>
          <a:blip r:embed="rId1"/>
          <a:stretch/>
        </p:blipFill>
        <p:spPr>
          <a:xfrm>
            <a:off x="6400800" y="3581280"/>
            <a:ext cx="1501920" cy="2362320"/>
          </a:xfrm>
          <a:prstGeom prst="rect">
            <a:avLst/>
          </a:prstGeom>
          <a:ln w="0">
            <a:noFill/>
          </a:ln>
        </p:spPr>
      </p:pic>
      <p:sp>
        <p:nvSpPr>
          <p:cNvPr id="144" name=""/>
          <p:cNvSpPr/>
          <p:nvPr/>
        </p:nvSpPr>
        <p:spPr>
          <a:xfrm>
            <a:off x="6328440" y="259092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zing handles</a:t>
            </a:r>
            <a:endParaRPr b="0" lang="en-US" sz="1800" spc="-1" strike="noStrike">
              <a:solidFill>
                <a:srgbClr val="003366"/>
              </a:solidFill>
              <a:latin typeface="Arial"/>
            </a:endParaRPr>
          </a:p>
        </p:txBody>
      </p:sp>
      <p:sp>
        <p:nvSpPr>
          <p:cNvPr id="145" name=""/>
          <p:cNvSpPr/>
          <p:nvPr/>
        </p:nvSpPr>
        <p:spPr>
          <a:xfrm flipH="1">
            <a:off x="6476760" y="2895480"/>
            <a:ext cx="6094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7086600" y="2895480"/>
            <a:ext cx="763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7086600" y="2895480"/>
            <a:ext cx="7621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E68F735-4369-4DFC-B7A2-B72EAB886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opping Graphics</a:t>
            </a:r>
            <a:endParaRPr b="1" lang="en-US" sz="3600" spc="-1" strike="noStrike">
              <a:solidFill>
                <a:srgbClr val="006666"/>
              </a:solidFill>
              <a:latin typeface="Arial"/>
            </a:endParaRPr>
          </a:p>
        </p:txBody>
      </p:sp>
      <p:sp>
        <p:nvSpPr>
          <p:cNvPr id="149" name="PlaceHolder 1"/>
          <p:cNvSpPr>
            <a:spLocks noGrp="1"/>
          </p:cNvSpPr>
          <p:nvPr>
            <p:ph/>
          </p:nvPr>
        </p:nvSpPr>
        <p:spPr>
          <a:xfrm>
            <a:off x="3886200" y="2438280"/>
            <a:ext cx="4572000" cy="411480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rop graphics to remove unwanted portions of the image.</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ropping removes an area of an image, as shown at left. Select the Crop tool in the Picture toolbox, position it over a sizing handle, and drag to place dashed lines around the part of the graphic you want to retain.</a:t>
            </a:r>
            <a:endParaRPr b="0" lang="en-US" sz="2300" spc="-1" strike="noStrike">
              <a:solidFill>
                <a:srgbClr val="003366"/>
              </a:solidFill>
              <a:latin typeface="Arial"/>
            </a:endParaRPr>
          </a:p>
        </p:txBody>
      </p:sp>
      <p:pic>
        <p:nvPicPr>
          <p:cNvPr id="150" name="" descr=""/>
          <p:cNvPicPr/>
          <p:nvPr/>
        </p:nvPicPr>
        <p:blipFill>
          <a:blip r:embed="rId1"/>
          <a:stretch/>
        </p:blipFill>
        <p:spPr>
          <a:xfrm>
            <a:off x="1219320" y="2590920"/>
            <a:ext cx="2361960" cy="2068560"/>
          </a:xfrm>
          <a:prstGeom prst="rect">
            <a:avLst/>
          </a:prstGeom>
          <a:ln w="0">
            <a:noFill/>
          </a:ln>
        </p:spPr>
      </p:pic>
      <p:sp>
        <p:nvSpPr>
          <p:cNvPr id="151" name=""/>
          <p:cNvSpPr/>
          <p:nvPr/>
        </p:nvSpPr>
        <p:spPr>
          <a:xfrm>
            <a:off x="1219320" y="5029200"/>
            <a:ext cx="23778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shed lines indicate where the graphic will be cropped.</a:t>
            </a:r>
            <a:endParaRPr b="0" lang="en-US" sz="1800" spc="-1" strike="noStrike">
              <a:solidFill>
                <a:srgbClr val="003366"/>
              </a:solidFill>
              <a:latin typeface="Arial"/>
            </a:endParaRPr>
          </a:p>
        </p:txBody>
      </p:sp>
      <p:sp>
        <p:nvSpPr>
          <p:cNvPr id="152" name=""/>
          <p:cNvSpPr/>
          <p:nvPr/>
        </p:nvSpPr>
        <p:spPr>
          <a:xfrm flipV="1">
            <a:off x="1752480" y="4114800"/>
            <a:ext cx="106704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69BB1BB-5F2A-453D-9FE5-CAB5F3E520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apping Text Around a Graphic</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4267440" cy="42670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wrap text around an imag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ing the Text Wrapping tool on the Picture toolbar reveals the options shown at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ny of these options to change the way text flows around or near your graphic image.</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55" name="" descr=""/>
          <p:cNvPicPr/>
          <p:nvPr/>
        </p:nvPicPr>
        <p:blipFill>
          <a:blip r:embed="rId1"/>
          <a:stretch/>
        </p:blipFill>
        <p:spPr>
          <a:xfrm>
            <a:off x="5334120" y="2514600"/>
            <a:ext cx="2641320" cy="35812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C8EE2B4-F48D-4EC4-8AE2-D043AB3C6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 Graphic</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391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xt-wrapping format must be applied to the graphic before you can reposition it in your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then move a graphic by selecting it and dragging it to a new loc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7B3A334-7754-4B88-BB58-66F5F3E37A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ordArt Gallery</a:t>
            </a:r>
            <a:endParaRPr b="1" lang="en-US" sz="3600" spc="-1" strike="noStrike">
              <a:solidFill>
                <a:srgbClr val="006666"/>
              </a:solidFill>
              <a:latin typeface="Arial"/>
            </a:endParaRPr>
          </a:p>
        </p:txBody>
      </p:sp>
      <p:sp>
        <p:nvSpPr>
          <p:cNvPr id="159" name="PlaceHolder 1"/>
          <p:cNvSpPr>
            <a:spLocks noGrp="1"/>
          </p:cNvSpPr>
          <p:nvPr>
            <p:ph/>
          </p:nvPr>
        </p:nvSpPr>
        <p:spPr>
          <a:xfrm>
            <a:off x="4800600" y="2590560"/>
            <a:ext cx="384984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Art turns text into a graphic ob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your own effect or choose from a gallery of supplied effec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0" name="" descr=""/>
          <p:cNvPicPr/>
          <p:nvPr/>
        </p:nvPicPr>
        <p:blipFill>
          <a:blip r:embed="rId1"/>
          <a:stretch/>
        </p:blipFill>
        <p:spPr>
          <a:xfrm>
            <a:off x="1295280" y="2598840"/>
            <a:ext cx="3313080" cy="28558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9655698-EDE0-443A-8785-690E4B0B9D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WordArt</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WordArt objects from the gallery:</a:t>
            </a:r>
            <a:endParaRPr b="0" lang="en-US" sz="28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sition the insertion point where you want the WordArt to appear in your docume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splay the Drawing toolbar and click the WordArt button on the toolbar to open the gallery, then select a WordArt style from the galler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nter your text in the dialog box, and Word will format it according to the style you selected.</a:t>
            </a:r>
            <a:endParaRPr b="0" lang="en-US" sz="2500" spc="-1" strike="noStrike">
              <a:solidFill>
                <a:srgbClr val="003366"/>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FA0EF51-6B3F-4DC4-A8A9-6794FB3395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rawing Tools</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Word’s Drawing tools on the Drawing toolbar, you can create your own graphic objects in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reate a drawing object, a drawing canvas will appear to help you arrange your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objects can be grouped and layered on the drawing canv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7FE234-638B-468E-9AAA-3BBFDB2D07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rawing Canvas</a:t>
            </a:r>
            <a:endParaRPr b="1" lang="en-US" sz="3600" spc="-1" strike="noStrike">
              <a:solidFill>
                <a:srgbClr val="006666"/>
              </a:solidFill>
              <a:latin typeface="Arial"/>
            </a:endParaRPr>
          </a:p>
        </p:txBody>
      </p:sp>
      <p:pic>
        <p:nvPicPr>
          <p:cNvPr id="166" name="" descr=""/>
          <p:cNvPicPr/>
          <p:nvPr/>
        </p:nvPicPr>
        <p:blipFill>
          <a:blip r:embed="rId1"/>
          <a:stretch/>
        </p:blipFill>
        <p:spPr>
          <a:xfrm>
            <a:off x="762120" y="3429000"/>
            <a:ext cx="3770280" cy="2070000"/>
          </a:xfrm>
          <a:prstGeom prst="rect">
            <a:avLst/>
          </a:prstGeom>
          <a:ln w="0">
            <a:noFill/>
          </a:ln>
        </p:spPr>
      </p:pic>
      <p:sp>
        <p:nvSpPr>
          <p:cNvPr id="167" name="PlaceHolder 1"/>
          <p:cNvSpPr>
            <a:spLocks noGrp="1"/>
          </p:cNvSpPr>
          <p:nvPr>
            <p:ph/>
          </p:nvPr>
        </p:nvSpPr>
        <p:spPr>
          <a:xfrm>
            <a:off x="4191120" y="2362320"/>
            <a:ext cx="4495680" cy="4038480"/>
          </a:xfrm>
          <a:prstGeom prst="rect">
            <a:avLst/>
          </a:prstGeom>
          <a:noFill/>
          <a:ln w="0">
            <a:noFill/>
          </a:ln>
        </p:spPr>
        <p:txBody>
          <a:bodyPr lIns="90000" rIns="90000" tIns="46800" bIns="46800" anchor="t">
            <a:normAutofit/>
          </a:bodyPr>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When you select a drawing tool, the drawing canvas and the drawing canvas toolbar display automatically.</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rawing canvas provides a frame-like boundary around your object.</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pointer changes to a crosshair, which you can move anywhere within the canvas to start your drawing.</a:t>
            </a:r>
            <a:endParaRPr b="0" lang="en-US" sz="2300" spc="-1" strike="noStrike">
              <a:solidFill>
                <a:srgbClr val="003366"/>
              </a:solidFill>
              <a:latin typeface="Arial"/>
            </a:endParaRPr>
          </a:p>
        </p:txBody>
      </p:sp>
      <p:sp>
        <p:nvSpPr>
          <p:cNvPr id="168" name=""/>
          <p:cNvSpPr/>
          <p:nvPr/>
        </p:nvSpPr>
        <p:spPr>
          <a:xfrm>
            <a:off x="974880" y="2943360"/>
            <a:ext cx="138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osshair pointer</a:t>
            </a:r>
            <a:endParaRPr b="0" lang="en-US" sz="1800" spc="-1" strike="noStrike">
              <a:solidFill>
                <a:srgbClr val="003366"/>
              </a:solidFill>
              <a:latin typeface="Arial"/>
            </a:endParaRPr>
          </a:p>
        </p:txBody>
      </p:sp>
      <p:sp>
        <p:nvSpPr>
          <p:cNvPr id="169" name=""/>
          <p:cNvSpPr/>
          <p:nvPr/>
        </p:nvSpPr>
        <p:spPr>
          <a:xfrm>
            <a:off x="1828800" y="3363840"/>
            <a:ext cx="12193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2422440" y="2486160"/>
            <a:ext cx="18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awing canvas toolbar</a:t>
            </a:r>
            <a:endParaRPr b="0" lang="en-US" sz="1800" spc="-1" strike="noStrike">
              <a:solidFill>
                <a:srgbClr val="003366"/>
              </a:solidFill>
              <a:latin typeface="Arial"/>
            </a:endParaRPr>
          </a:p>
        </p:txBody>
      </p:sp>
      <p:sp>
        <p:nvSpPr>
          <p:cNvPr id="171" name=""/>
          <p:cNvSpPr/>
          <p:nvPr/>
        </p:nvSpPr>
        <p:spPr>
          <a:xfrm>
            <a:off x="1680120" y="571500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awing canvas</a:t>
            </a:r>
            <a:endParaRPr b="0" lang="en-US" sz="1800" spc="-1" strike="noStrike">
              <a:solidFill>
                <a:srgbClr val="003366"/>
              </a:solidFill>
              <a:latin typeface="Arial"/>
            </a:endParaRPr>
          </a:p>
        </p:txBody>
      </p:sp>
      <p:sp>
        <p:nvSpPr>
          <p:cNvPr id="172" name=""/>
          <p:cNvSpPr/>
          <p:nvPr/>
        </p:nvSpPr>
        <p:spPr>
          <a:xfrm>
            <a:off x="2895480" y="3048120"/>
            <a:ext cx="2286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flipH="1" flipV="1">
            <a:off x="2209320" y="5409720"/>
            <a:ext cx="38124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AEEE0F5-3F5C-41D8-BFB9-5C4629C9E7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Boxes</a:t>
            </a:r>
            <a:endParaRPr b="1" lang="en-US" sz="3600" spc="-1" strike="noStrike">
              <a:solidFill>
                <a:srgbClr val="006666"/>
              </a:solidFill>
              <a:latin typeface="Arial"/>
            </a:endParaRPr>
          </a:p>
        </p:txBody>
      </p:sp>
      <p:sp>
        <p:nvSpPr>
          <p:cNvPr id="175"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text box is a graphic that lets you add text to art.</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create a text box, click the Text Box button on the Drawing toolbar.</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anywhere on the screen and drag the crosshair to create the box.</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Enter your text inside the box.</a:t>
            </a:r>
            <a:endParaRPr b="0" lang="en-US" sz="21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hange the formatting of a text box using buttons on the Drawing toolbar.</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hange the text characteristics (font, font style, and size) using the Formatting toolbar.</a:t>
            </a:r>
            <a:endParaRPr b="0" lang="en-US" sz="2300" spc="-1" strike="noStrike">
              <a:solidFill>
                <a:srgbClr val="003366"/>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23F1B55-CF75-4B5B-8996-C5EFAC1456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s AutoShapes feature allows you to create a variety of predesigned drawing objects such as stars, arrows, shapes, and call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Shapes can be moved and resized just like any other graphic objec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E514AC9-2BC7-4B60-A3AC-0E4E0479FD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2320"/>
            <a:ext cx="7693200" cy="3952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clip art and other graphics and resize and position graphic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rawing tool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emplates and apply styles to create effective documents efficientl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ext tools including the Thesaurus, AutoComplete, and AutoText to increase the quality of your work.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3D3FD21-BC0D-42C5-B602-A6189A8675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 (cont.)</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an AutoShape, select the shape that you want to create from the AutoShape options available from the Drawing toolbar.</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rag the crosshair to create the shape for the size that you want.</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t a color option for your shape using the Drawing toolbar line and fill color butt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45731BF-534A-421F-BE5D-5DB8838BFF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mplates</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template</a:t>
            </a:r>
            <a:r>
              <a:rPr b="0" lang="en-US" sz="2800" spc="-1" strike="noStrike">
                <a:solidFill>
                  <a:srgbClr val="003366"/>
                </a:solidFill>
                <a:latin typeface="Arial"/>
              </a:rPr>
              <a:t> is a file that contains document, paragraph, and character formats for documents that you create freque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ll standard text and formatting options are already applied to the document, you just enter the variable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mplates increase the speed and efficiency of your work.</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E7EE203-C441-4B1B-AD27-2D1BCE4854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Template</a:t>
            </a:r>
            <a:endParaRPr b="1" lang="en-US" sz="3600" spc="-1" strike="noStrike">
              <a:solidFill>
                <a:srgbClr val="006666"/>
              </a:solidFill>
              <a:latin typeface="Arial"/>
            </a:endParaRPr>
          </a:p>
        </p:txBody>
      </p:sp>
      <p:sp>
        <p:nvSpPr>
          <p:cNvPr id="18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use a Word template, select the New command from the File menu to open the New Document task pan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Templates section of the task pane allows you to search for available templates on your computer, on Office Online, or on Web sites you selec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On your computer option opens the Templates dialog box, with many template choices for general business, research, and legal documents.</a:t>
            </a:r>
            <a:endParaRPr b="0" lang="en-US" sz="2300" spc="-1" strike="noStrike">
              <a:solidFill>
                <a:srgbClr val="003366"/>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E254AB2-ECCF-427A-9E9E-EE6B75A7BF1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emplates Dialog Box</a:t>
            </a:r>
            <a:endParaRPr b="1" lang="en-US" sz="3600" spc="-1" strike="noStrike">
              <a:solidFill>
                <a:srgbClr val="006666"/>
              </a:solidFill>
              <a:latin typeface="Arial"/>
            </a:endParaRPr>
          </a:p>
        </p:txBody>
      </p:sp>
      <p:pic>
        <p:nvPicPr>
          <p:cNvPr id="185" name="" descr=""/>
          <p:cNvPicPr/>
          <p:nvPr/>
        </p:nvPicPr>
        <p:blipFill>
          <a:blip r:embed="rId1"/>
          <a:stretch/>
        </p:blipFill>
        <p:spPr>
          <a:xfrm>
            <a:off x="1768320" y="2593800"/>
            <a:ext cx="5470560" cy="34927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37747269-B46F-44D5-8C36-3B7300FCD2A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yle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yle is a set of formatting characteristics that can be applied to text in a document.</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types of styles:</a:t>
            </a:r>
            <a:endParaRPr b="0" lang="en-US" sz="24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agraph</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acter</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ble</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a:t>
            </a:r>
            <a:endParaRPr b="0" lang="en-US" sz="20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create, view, and apply styles from the Styles and Formatting task pane, which you open by selecting the Styles and Formatting option on the Format menu.</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A41D792-1C38-4849-B17A-C883AE18623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Tools in Word</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the spell check and grammar check tools, Word offers other features to enhance the content of your document and efficiently create quality resul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nguage tools available in Word inclu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aur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mplete</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4F03E31-4A7C-4670-9EAE-3CD423F4EA8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saurus</a:t>
            </a:r>
            <a:endParaRPr b="1" lang="en-US" sz="3600" spc="-1" strike="noStrike">
              <a:solidFill>
                <a:srgbClr val="006666"/>
              </a:solidFill>
              <a:latin typeface="Arial"/>
            </a:endParaRPr>
          </a:p>
        </p:txBody>
      </p:sp>
      <p:sp>
        <p:nvSpPr>
          <p:cNvPr id="19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thesaurus</a:t>
            </a:r>
            <a:r>
              <a:rPr b="0" lang="en-US" sz="2800" spc="-1" strike="noStrike">
                <a:solidFill>
                  <a:srgbClr val="003366"/>
                </a:solidFill>
                <a:latin typeface="Arial"/>
              </a:rPr>
              <a:t> is a compilation of alternative words or synony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hesaurus feature in Word searches for a perfect synony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6F4A7A8-57E4-4DF6-AA3F-CCBE13D902B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saurus (cont.)</a:t>
            </a:r>
            <a:endParaRPr b="1" lang="en-US" sz="3600" spc="-1" strike="noStrike">
              <a:solidFill>
                <a:srgbClr val="006666"/>
              </a:solidFill>
              <a:latin typeface="Arial"/>
            </a:endParaRPr>
          </a:p>
        </p:txBody>
      </p:sp>
      <p:sp>
        <p:nvSpPr>
          <p:cNvPr id="19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saurus from the Language submenu on the Tools menu.</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If you have already selected a word to look up in the document, the Research pane will open with a list of alternative words already display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enter a word in the Search for text box at the top of the task pane, and then click the Start searching arrow to the right of the text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BC96AB2-00FF-4BBF-A744-FA9308D0829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search Pane</a:t>
            </a:r>
            <a:endParaRPr b="1" lang="en-US" sz="3600" spc="-1" strike="noStrike">
              <a:solidFill>
                <a:srgbClr val="006666"/>
              </a:solidFill>
              <a:latin typeface="Arial"/>
            </a:endParaRPr>
          </a:p>
        </p:txBody>
      </p:sp>
      <p:pic>
        <p:nvPicPr>
          <p:cNvPr id="195" name="" descr=""/>
          <p:cNvPicPr/>
          <p:nvPr/>
        </p:nvPicPr>
        <p:blipFill>
          <a:blip r:embed="rId1"/>
          <a:stretch/>
        </p:blipFill>
        <p:spPr>
          <a:xfrm>
            <a:off x="1905120" y="2514600"/>
            <a:ext cx="1685880" cy="3724200"/>
          </a:xfrm>
          <a:prstGeom prst="rect">
            <a:avLst/>
          </a:prstGeom>
          <a:ln w="0">
            <a:noFill/>
          </a:ln>
        </p:spPr>
      </p:pic>
      <p:sp>
        <p:nvSpPr>
          <p:cNvPr id="196" name=""/>
          <p:cNvSpPr/>
          <p:nvPr/>
        </p:nvSpPr>
        <p:spPr>
          <a:xfrm>
            <a:off x="4191120" y="2743200"/>
            <a:ext cx="32763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earch pane in Word lists synonyms provided by the Thesaurus feature.</a:t>
            </a:r>
            <a:endParaRPr b="0" lang="en-US" sz="1800" spc="-1" strike="noStrike">
              <a:solidFill>
                <a:srgbClr val="003366"/>
              </a:solidFill>
              <a:latin typeface="Arial"/>
            </a:endParaRPr>
          </a:p>
        </p:txBody>
      </p:sp>
      <p:sp>
        <p:nvSpPr>
          <p:cNvPr id="197" name=""/>
          <p:cNvSpPr/>
          <p:nvPr/>
        </p:nvSpPr>
        <p:spPr>
          <a:xfrm>
            <a:off x="4419720" y="4495680"/>
            <a:ext cx="396216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a word in the list to display a down arrow, which you can click to access a shortcut menu with options to insert, copy, or look up the word.</a:t>
            </a:r>
            <a:endParaRPr b="0" lang="en-US" sz="1800" spc="-1" strike="noStrike">
              <a:solidFill>
                <a:srgbClr val="003366"/>
              </a:solidFill>
              <a:latin typeface="Arial"/>
            </a:endParaRPr>
          </a:p>
        </p:txBody>
      </p:sp>
      <p:sp>
        <p:nvSpPr>
          <p:cNvPr id="198" name=""/>
          <p:cNvSpPr/>
          <p:nvPr/>
        </p:nvSpPr>
        <p:spPr>
          <a:xfrm flipH="1" flipV="1">
            <a:off x="3352320" y="2895120"/>
            <a:ext cx="83844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H="1" flipV="1">
            <a:off x="2666520" y="4495680"/>
            <a:ext cx="175284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43D1D5FF-5272-448D-B1D3-6EF39A466F8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Complete and AutoText</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utoComplete suggests the spelling for frequently used words and phrases.</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s you begin to key, Word will anticipate what you are keying and display a suggested word or phrase.</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ccept the suggestion by pressing Enter or simply continue keying to reject the suggestion.</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utoText allows you to create your own text entries and add them to the AutoComplete set of word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6E0ECFD-68D3-4180-9F2B-CE17DA0908B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n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p a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ktop publish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canvas</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71858845-7BB5-40AC-9B4C-843D4019A4D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can be arranged in a variety of multicolumn formats, all within the same docu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rders and shading are also important tools for desktop publishing. You can choose from a variety of options for line styles, colors, and shading effec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7D701DA-6D0D-41BF-B0F5-61153E77C5E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sert Page Number command automatically numbers all the pages in a document. You can include text with the page number by formatting a header or foo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8CC1573-F97B-404C-9105-632A58864E8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notes and endnotes are used in a document to show the source of borrowed material or to provide extra or explanatory information about the text; footnotes appear at the bottom of each page and endnotes are added to the end of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p art and other pictures help to enhance the appearance and effectiveness of a docu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91F6031-A9B9-444A-B640-9BBDC701F2D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9"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ormat a picture for text wrapping, you can position the graphic anywhere on the page by dragging it to a new posi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Art enables you to convert text to a graphic. WordArt objects can be positioned and resized the same as pictu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your own artwork using the drawing tools.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66A2C1E-83D4-46FD-9414-1B7DFC0D2E8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rawing canvas helps you arrange, position, and resize your drawing objects. You can format and move the drawing canvas just as you format other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Shapes provide predesigned drawing objects such as stars, shapes, and callou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2028271-31DD-402B-8517-217AA738949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soft Office templates and styles provide a uniform appearance for your documents and can increase the speed and quality of your work by providing predesigned documents and preset forma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C7C1CB2-1E81-48B8-8982-54D627364C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hesaurus provides a list of alternative words and synonyms to help you compose professional documents effectiv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Text and AutoComplete make entering repetitive phrases simple and eas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13179E3-B52C-4C18-BF63-49A799C7780A}"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column brea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zing hand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scrip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mpl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aur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umbnai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B12A152-276D-4637-9454-7F60D87AA7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ktop Publishing</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esktop publishing makes it possible to create professional-looking documents using a personal comput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vides tools to enhance documents with features such as columnar text, borders and shading, graphics, and footnot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mplates and text styles make creating well-designed and consistent documents quick and efficient.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0A9868B-175B-4E3B-8AB7-AEDEB21086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tting Text in Column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46784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application for desktop publishing is creating a newsletter, which often requires text to be set in colum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columns in a Word document:</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text to be broken into columns.</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Columns button on the Standard toolbar.</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63C1E8A-85A7-4794-AB08-30D4902460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lumns Grid</a:t>
            </a:r>
            <a:endParaRPr b="1" lang="en-US" sz="3600" spc="-1" strike="noStrike">
              <a:solidFill>
                <a:srgbClr val="006666"/>
              </a:solidFill>
              <a:latin typeface="Arial"/>
            </a:endParaRPr>
          </a:p>
        </p:txBody>
      </p:sp>
      <p:sp>
        <p:nvSpPr>
          <p:cNvPr id="112" name="PlaceHolder 2"/>
          <p:cNvSpPr>
            <a:spLocks noGrp="1"/>
          </p:cNvSpPr>
          <p:nvPr>
            <p:ph/>
          </p:nvPr>
        </p:nvSpPr>
        <p:spPr>
          <a:xfrm>
            <a:off x="837720" y="2362320"/>
            <a:ext cx="3886200" cy="39621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Columns grid shown at right display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rag across the grid to select the number of columns that you wa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release the mouse button, your text is reformatted into columns.</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13" name="" descr=""/>
          <p:cNvPicPr/>
          <p:nvPr/>
        </p:nvPicPr>
        <p:blipFill>
          <a:blip r:embed="rId1"/>
          <a:stretch/>
        </p:blipFill>
        <p:spPr>
          <a:xfrm>
            <a:off x="4800600" y="2514600"/>
            <a:ext cx="3541680" cy="2401920"/>
          </a:xfrm>
          <a:prstGeom prst="rect">
            <a:avLst/>
          </a:prstGeom>
          <a:ln w="0">
            <a:noFill/>
          </a:ln>
        </p:spPr>
      </p:pic>
      <p:sp>
        <p:nvSpPr>
          <p:cNvPr id="114" name=""/>
          <p:cNvSpPr/>
          <p:nvPr/>
        </p:nvSpPr>
        <p:spPr>
          <a:xfrm>
            <a:off x="4800600" y="5029200"/>
            <a:ext cx="35211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text breaks into the number of columns you choose from the Columns grid.</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02BEC9A-FFE1-4048-A8E6-2CFD4C3139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lumns Dialog Box</a:t>
            </a:r>
            <a:endParaRPr b="1" lang="en-US" sz="3600" spc="-1" strike="noStrike">
              <a:solidFill>
                <a:srgbClr val="006666"/>
              </a:solidFill>
              <a:latin typeface="Arial"/>
            </a:endParaRPr>
          </a:p>
        </p:txBody>
      </p:sp>
      <p:pic>
        <p:nvPicPr>
          <p:cNvPr id="116" name="" descr=""/>
          <p:cNvPicPr/>
          <p:nvPr/>
        </p:nvPicPr>
        <p:blipFill>
          <a:blip r:embed="rId1"/>
          <a:stretch/>
        </p:blipFill>
        <p:spPr>
          <a:xfrm>
            <a:off x="1066680" y="2666880"/>
            <a:ext cx="3657600" cy="2992680"/>
          </a:xfrm>
          <a:prstGeom prst="rect">
            <a:avLst/>
          </a:prstGeom>
          <a:ln w="0">
            <a:noFill/>
          </a:ln>
        </p:spPr>
      </p:pic>
      <p:sp>
        <p:nvSpPr>
          <p:cNvPr id="117" name="PlaceHolder 1"/>
          <p:cNvSpPr>
            <a:spLocks noGrp="1"/>
          </p:cNvSpPr>
          <p:nvPr>
            <p:ph/>
          </p:nvPr>
        </p:nvSpPr>
        <p:spPr>
          <a:xfrm>
            <a:off x="4760640" y="2362320"/>
            <a:ext cx="3925800" cy="3962160"/>
          </a:xfrm>
          <a:prstGeom prst="rect">
            <a:avLst/>
          </a:prstGeom>
          <a:noFill/>
          <a:ln w="0">
            <a:noFill/>
          </a:ln>
        </p:spPr>
        <p:txBody>
          <a:bodyPr lIns="90000" rIns="90000" tIns="46800" bIns="46800" anchor="t">
            <a:normAutofit fontScale="99000"/>
          </a:bodyPr>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also insert columns in text by selecting the Columns option on the Format menu.</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specify other options, such as column width and spacing, in the Columns dialog box.</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CE072C4-362B-4CA2-B18C-A09F1D270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3T22:41:59Z</dcterms:modified>
  <cp:revision>44</cp:revision>
  <dc:subject/>
  <dc:title>kjjhghgff</dc:title>
</cp:coreProperties>
</file>